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3543480"/>
            <a:ext cx="9131400" cy="3301920"/>
            <a:chOff x="0" y="3543480"/>
            <a:chExt cx="9131400" cy="3301920"/>
          </a:xfrm>
        </p:grpSpPr>
        <p:sp>
          <p:nvSpPr>
            <p:cNvPr id="2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400800" y="3543480"/>
              <a:ext cx="2630880" cy="3148200"/>
              <a:chOff x="6400800" y="3543480"/>
              <a:chExt cx="2630880" cy="3148200"/>
            </a:xfrm>
          </p:grpSpPr>
          <p:grpSp>
            <p:nvGrpSpPr>
              <p:cNvPr id="4" name=""/>
              <p:cNvGrpSpPr/>
              <p:nvPr/>
            </p:nvGrpSpPr>
            <p:grpSpPr>
              <a:xfrm>
                <a:off x="6746760" y="3543480"/>
                <a:ext cx="2284920" cy="3148200"/>
                <a:chOff x="6746760" y="3543480"/>
                <a:chExt cx="2284920" cy="31482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6746760" y="3630600"/>
                  <a:ext cx="2284920" cy="2808720"/>
                </a:xfrm>
                <a:custGeom>
                  <a:avLst/>
                  <a:gdLst/>
                  <a:ahLst/>
                  <a:rect l="0" t="0" r="r" b="b"/>
                  <a:pathLst>
                    <a:path w="6347" h="7802">
                      <a:moveTo>
                        <a:pt x="3581" y="0"/>
                      </a:moveTo>
                      <a:lnTo>
                        <a:pt x="3974" y="145"/>
                      </a:lnTo>
                      <a:lnTo>
                        <a:pt x="4348" y="343"/>
                      </a:lnTo>
                      <a:lnTo>
                        <a:pt x="4701" y="568"/>
                      </a:lnTo>
                      <a:lnTo>
                        <a:pt x="5029" y="824"/>
                      </a:lnTo>
                      <a:lnTo>
                        <a:pt x="5324" y="1128"/>
                      </a:lnTo>
                      <a:lnTo>
                        <a:pt x="5580" y="1455"/>
                      </a:lnTo>
                      <a:lnTo>
                        <a:pt x="5805" y="1807"/>
                      </a:lnTo>
                      <a:lnTo>
                        <a:pt x="6003" y="2170"/>
                      </a:lnTo>
                      <a:lnTo>
                        <a:pt x="6149" y="2563"/>
                      </a:lnTo>
                      <a:lnTo>
                        <a:pt x="6259" y="2968"/>
                      </a:lnTo>
                      <a:lnTo>
                        <a:pt x="6329" y="3378"/>
                      </a:lnTo>
                      <a:lnTo>
                        <a:pt x="6347" y="3802"/>
                      </a:lnTo>
                      <a:lnTo>
                        <a:pt x="6329" y="4225"/>
                      </a:lnTo>
                      <a:lnTo>
                        <a:pt x="6259" y="4640"/>
                      </a:lnTo>
                      <a:lnTo>
                        <a:pt x="6149" y="5041"/>
                      </a:lnTo>
                      <a:lnTo>
                        <a:pt x="6003" y="5424"/>
                      </a:lnTo>
                      <a:lnTo>
                        <a:pt x="5805" y="5795"/>
                      </a:lnTo>
                      <a:lnTo>
                        <a:pt x="5580" y="6153"/>
                      </a:lnTo>
                      <a:lnTo>
                        <a:pt x="5324" y="6475"/>
                      </a:lnTo>
                      <a:lnTo>
                        <a:pt x="5029" y="6779"/>
                      </a:lnTo>
                      <a:lnTo>
                        <a:pt x="4701" y="7044"/>
                      </a:lnTo>
                      <a:lnTo>
                        <a:pt x="4348" y="7260"/>
                      </a:lnTo>
                      <a:lnTo>
                        <a:pt x="3974" y="7458"/>
                      </a:lnTo>
                      <a:lnTo>
                        <a:pt x="3581" y="7604"/>
                      </a:lnTo>
                      <a:lnTo>
                        <a:pt x="3180" y="7714"/>
                      </a:lnTo>
                      <a:lnTo>
                        <a:pt x="2765" y="7785"/>
                      </a:lnTo>
                      <a:lnTo>
                        <a:pt x="2351" y="7802"/>
                      </a:lnTo>
                      <a:lnTo>
                        <a:pt x="1928" y="7785"/>
                      </a:lnTo>
                      <a:lnTo>
                        <a:pt x="1516" y="7714"/>
                      </a:lnTo>
                      <a:lnTo>
                        <a:pt x="1111" y="7604"/>
                      </a:lnTo>
                      <a:lnTo>
                        <a:pt x="727" y="7458"/>
                      </a:lnTo>
                      <a:lnTo>
                        <a:pt x="352" y="7260"/>
                      </a:lnTo>
                      <a:lnTo>
                        <a:pt x="0" y="7044"/>
                      </a:lnTo>
                      <a:lnTo>
                        <a:pt x="224" y="6722"/>
                      </a:lnTo>
                      <a:lnTo>
                        <a:pt x="551" y="6929"/>
                      </a:lnTo>
                      <a:lnTo>
                        <a:pt x="886" y="7097"/>
                      </a:lnTo>
                      <a:lnTo>
                        <a:pt x="1239" y="7233"/>
                      </a:lnTo>
                      <a:lnTo>
                        <a:pt x="1606" y="7330"/>
                      </a:lnTo>
                      <a:lnTo>
                        <a:pt x="1967" y="7388"/>
                      </a:lnTo>
                      <a:lnTo>
                        <a:pt x="2351" y="7410"/>
                      </a:lnTo>
                      <a:lnTo>
                        <a:pt x="2726" y="7388"/>
                      </a:lnTo>
                      <a:lnTo>
                        <a:pt x="3101" y="7330"/>
                      </a:lnTo>
                      <a:lnTo>
                        <a:pt x="3462" y="7233"/>
                      </a:lnTo>
                      <a:lnTo>
                        <a:pt x="3819" y="7097"/>
                      </a:lnTo>
                      <a:lnTo>
                        <a:pt x="4150" y="6929"/>
                      </a:lnTo>
                      <a:lnTo>
                        <a:pt x="4468" y="6722"/>
                      </a:lnTo>
                      <a:lnTo>
                        <a:pt x="4764" y="6484"/>
                      </a:lnTo>
                      <a:lnTo>
                        <a:pt x="5029" y="6219"/>
                      </a:lnTo>
                      <a:lnTo>
                        <a:pt x="5267" y="5924"/>
                      </a:lnTo>
                      <a:lnTo>
                        <a:pt x="5470" y="5601"/>
                      </a:lnTo>
                      <a:lnTo>
                        <a:pt x="5650" y="5266"/>
                      </a:lnTo>
                      <a:lnTo>
                        <a:pt x="5787" y="4922"/>
                      </a:lnTo>
                      <a:lnTo>
                        <a:pt x="5875" y="4551"/>
                      </a:lnTo>
                      <a:lnTo>
                        <a:pt x="5933" y="4177"/>
                      </a:lnTo>
                      <a:lnTo>
                        <a:pt x="5955" y="3802"/>
                      </a:lnTo>
                      <a:lnTo>
                        <a:pt x="5933" y="3418"/>
                      </a:lnTo>
                      <a:lnTo>
                        <a:pt x="5875" y="3048"/>
                      </a:lnTo>
                      <a:lnTo>
                        <a:pt x="5787" y="2682"/>
                      </a:lnTo>
                      <a:lnTo>
                        <a:pt x="5650" y="2338"/>
                      </a:lnTo>
                      <a:lnTo>
                        <a:pt x="5470" y="1994"/>
                      </a:lnTo>
                      <a:lnTo>
                        <a:pt x="5267" y="1680"/>
                      </a:lnTo>
                      <a:lnTo>
                        <a:pt x="5029" y="1384"/>
                      </a:lnTo>
                      <a:lnTo>
                        <a:pt x="4764" y="1120"/>
                      </a:lnTo>
                      <a:lnTo>
                        <a:pt x="4468" y="886"/>
                      </a:lnTo>
                      <a:lnTo>
                        <a:pt x="4150" y="679"/>
                      </a:lnTo>
                      <a:lnTo>
                        <a:pt x="3819" y="502"/>
                      </a:lnTo>
                      <a:lnTo>
                        <a:pt x="3462" y="374"/>
                      </a:lnTo>
                      <a:lnTo>
                        <a:pt x="3475" y="343"/>
                      </a:lnTo>
                      <a:lnTo>
                        <a:pt x="358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 flipV="1">
                  <a:off x="6802560" y="6000840"/>
                  <a:ext cx="22680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V="1">
                  <a:off x="8064360" y="381492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flipV="1">
                  <a:off x="8197920" y="354348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054920" y="6450120"/>
                  <a:ext cx="1333800" cy="241560"/>
                </a:xfrm>
                <a:custGeom>
                  <a:avLst/>
                  <a:gdLst/>
                  <a:ahLst/>
                  <a:rect l="0" t="0" r="r" b="b"/>
                  <a:pathLst>
                    <a:path w="3705" h="671">
                      <a:moveTo>
                        <a:pt x="13" y="433"/>
                      </a:moveTo>
                      <a:lnTo>
                        <a:pt x="88" y="353"/>
                      </a:lnTo>
                      <a:lnTo>
                        <a:pt x="194" y="286"/>
                      </a:lnTo>
                      <a:lnTo>
                        <a:pt x="392" y="189"/>
                      </a:lnTo>
                      <a:lnTo>
                        <a:pt x="617" y="132"/>
                      </a:lnTo>
                      <a:lnTo>
                        <a:pt x="829" y="83"/>
                      </a:lnTo>
                      <a:lnTo>
                        <a:pt x="1115" y="39"/>
                      </a:lnTo>
                      <a:lnTo>
                        <a:pt x="1384" y="13"/>
                      </a:lnTo>
                      <a:lnTo>
                        <a:pt x="1702" y="0"/>
                      </a:lnTo>
                      <a:lnTo>
                        <a:pt x="2095" y="4"/>
                      </a:lnTo>
                      <a:lnTo>
                        <a:pt x="2501" y="26"/>
                      </a:lnTo>
                      <a:lnTo>
                        <a:pt x="2787" y="61"/>
                      </a:lnTo>
                      <a:lnTo>
                        <a:pt x="3087" y="119"/>
                      </a:lnTo>
                      <a:lnTo>
                        <a:pt x="3374" y="207"/>
                      </a:lnTo>
                      <a:lnTo>
                        <a:pt x="3524" y="291"/>
                      </a:lnTo>
                      <a:lnTo>
                        <a:pt x="3616" y="362"/>
                      </a:lnTo>
                      <a:lnTo>
                        <a:pt x="3705" y="477"/>
                      </a:lnTo>
                      <a:lnTo>
                        <a:pt x="3555" y="538"/>
                      </a:lnTo>
                      <a:lnTo>
                        <a:pt x="3299" y="587"/>
                      </a:lnTo>
                      <a:lnTo>
                        <a:pt x="2981" y="622"/>
                      </a:lnTo>
                      <a:lnTo>
                        <a:pt x="2682" y="653"/>
                      </a:lnTo>
                      <a:lnTo>
                        <a:pt x="2320" y="666"/>
                      </a:lnTo>
                      <a:lnTo>
                        <a:pt x="1928" y="671"/>
                      </a:lnTo>
                      <a:lnTo>
                        <a:pt x="1552" y="671"/>
                      </a:lnTo>
                      <a:lnTo>
                        <a:pt x="1159" y="666"/>
                      </a:lnTo>
                      <a:lnTo>
                        <a:pt x="723" y="631"/>
                      </a:lnTo>
                      <a:lnTo>
                        <a:pt x="374" y="596"/>
                      </a:lnTo>
                      <a:lnTo>
                        <a:pt x="88" y="530"/>
                      </a:lnTo>
                      <a:lnTo>
                        <a:pt x="0" y="481"/>
                      </a:lnTo>
                      <a:lnTo>
                        <a:pt x="13" y="4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6400800" y="3825720"/>
                <a:ext cx="2376360" cy="2371680"/>
                <a:chOff x="6400800" y="3825720"/>
                <a:chExt cx="2376360" cy="23716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6400800" y="3825720"/>
                  <a:ext cx="2376360" cy="23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" name=""/>
                <p:cNvGrpSpPr/>
                <p:nvPr/>
              </p:nvGrpSpPr>
              <p:grpSpPr>
                <a:xfrm>
                  <a:off x="6400800" y="4073400"/>
                  <a:ext cx="2208600" cy="1759680"/>
                  <a:chOff x="6400800" y="4073400"/>
                  <a:chExt cx="2208600" cy="1759680"/>
                </a:xfrm>
              </p:grpSpPr>
              <p:sp>
                <p:nvSpPr>
                  <p:cNvPr id="13" name=""/>
                  <p:cNvSpPr/>
                  <p:nvPr/>
                </p:nvSpPr>
                <p:spPr>
                  <a:xfrm>
                    <a:off x="6713640" y="4718160"/>
                    <a:ext cx="0" cy="252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70">
                        <a:moveTo>
                          <a:pt x="0" y="0"/>
                        </a:moveTo>
                        <a:lnTo>
                          <a:pt x="0" y="70"/>
                        </a:lnTo>
                        <a:lnTo>
                          <a:pt x="0" y="70"/>
                        </a:lnTo>
                        <a:lnTo>
                          <a:pt x="0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51800" y="4767120"/>
                    <a:ext cx="25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2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6878520" y="4702320"/>
                    <a:ext cx="79560" cy="7488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208">
                        <a:moveTo>
                          <a:pt x="221" y="0"/>
                        </a:moveTo>
                        <a:lnTo>
                          <a:pt x="137" y="0"/>
                        </a:lnTo>
                        <a:lnTo>
                          <a:pt x="88" y="57"/>
                        </a:lnTo>
                        <a:lnTo>
                          <a:pt x="57" y="57"/>
                        </a:lnTo>
                        <a:lnTo>
                          <a:pt x="30" y="83"/>
                        </a:lnTo>
                        <a:lnTo>
                          <a:pt x="0" y="83"/>
                        </a:lnTo>
                        <a:lnTo>
                          <a:pt x="0" y="155"/>
                        </a:lnTo>
                        <a:lnTo>
                          <a:pt x="52" y="208"/>
                        </a:lnTo>
                        <a:lnTo>
                          <a:pt x="181" y="208"/>
                        </a:lnTo>
                        <a:lnTo>
                          <a:pt x="221" y="155"/>
                        </a:lnTo>
                        <a:lnTo>
                          <a:pt x="221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6400800" y="4762440"/>
                    <a:ext cx="714600" cy="9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85" h="2585">
                        <a:moveTo>
                          <a:pt x="471" y="0"/>
                        </a:moveTo>
                        <a:lnTo>
                          <a:pt x="436" y="70"/>
                        </a:lnTo>
                        <a:lnTo>
                          <a:pt x="282" y="207"/>
                        </a:lnTo>
                        <a:lnTo>
                          <a:pt x="246" y="330"/>
                        </a:lnTo>
                        <a:lnTo>
                          <a:pt x="132" y="418"/>
                        </a:lnTo>
                        <a:lnTo>
                          <a:pt x="52" y="595"/>
                        </a:lnTo>
                        <a:lnTo>
                          <a:pt x="52" y="701"/>
                        </a:lnTo>
                        <a:lnTo>
                          <a:pt x="0" y="886"/>
                        </a:lnTo>
                        <a:lnTo>
                          <a:pt x="70" y="965"/>
                        </a:lnTo>
                        <a:lnTo>
                          <a:pt x="246" y="1199"/>
                        </a:lnTo>
                        <a:lnTo>
                          <a:pt x="299" y="1168"/>
                        </a:lnTo>
                        <a:lnTo>
                          <a:pt x="612" y="1168"/>
                        </a:lnTo>
                        <a:lnTo>
                          <a:pt x="758" y="1225"/>
                        </a:lnTo>
                        <a:lnTo>
                          <a:pt x="745" y="1407"/>
                        </a:lnTo>
                        <a:lnTo>
                          <a:pt x="851" y="1650"/>
                        </a:lnTo>
                        <a:lnTo>
                          <a:pt x="842" y="1716"/>
                        </a:lnTo>
                        <a:lnTo>
                          <a:pt x="886" y="1791"/>
                        </a:lnTo>
                        <a:lnTo>
                          <a:pt x="820" y="1963"/>
                        </a:lnTo>
                        <a:lnTo>
                          <a:pt x="899" y="2179"/>
                        </a:lnTo>
                        <a:lnTo>
                          <a:pt x="943" y="2346"/>
                        </a:lnTo>
                        <a:lnTo>
                          <a:pt x="997" y="2452"/>
                        </a:lnTo>
                        <a:lnTo>
                          <a:pt x="1054" y="2585"/>
                        </a:lnTo>
                        <a:lnTo>
                          <a:pt x="1160" y="2567"/>
                        </a:lnTo>
                        <a:lnTo>
                          <a:pt x="1332" y="2470"/>
                        </a:lnTo>
                        <a:lnTo>
                          <a:pt x="1412" y="2351"/>
                        </a:lnTo>
                        <a:lnTo>
                          <a:pt x="1407" y="2272"/>
                        </a:lnTo>
                        <a:lnTo>
                          <a:pt x="1509" y="2205"/>
                        </a:lnTo>
                        <a:lnTo>
                          <a:pt x="1491" y="2091"/>
                        </a:lnTo>
                        <a:lnTo>
                          <a:pt x="1645" y="1906"/>
                        </a:lnTo>
                        <a:lnTo>
                          <a:pt x="1667" y="1756"/>
                        </a:lnTo>
                        <a:lnTo>
                          <a:pt x="1628" y="1703"/>
                        </a:lnTo>
                        <a:lnTo>
                          <a:pt x="1645" y="1641"/>
                        </a:lnTo>
                        <a:lnTo>
                          <a:pt x="1610" y="1588"/>
                        </a:lnTo>
                        <a:lnTo>
                          <a:pt x="1725" y="1442"/>
                        </a:lnTo>
                        <a:lnTo>
                          <a:pt x="1725" y="1368"/>
                        </a:lnTo>
                        <a:lnTo>
                          <a:pt x="1883" y="1243"/>
                        </a:lnTo>
                        <a:lnTo>
                          <a:pt x="1985" y="912"/>
                        </a:lnTo>
                        <a:lnTo>
                          <a:pt x="1839" y="996"/>
                        </a:lnTo>
                        <a:lnTo>
                          <a:pt x="1711" y="961"/>
                        </a:lnTo>
                        <a:lnTo>
                          <a:pt x="1729" y="881"/>
                        </a:lnTo>
                        <a:lnTo>
                          <a:pt x="1601" y="793"/>
                        </a:lnTo>
                        <a:lnTo>
                          <a:pt x="1539" y="582"/>
                        </a:lnTo>
                        <a:lnTo>
                          <a:pt x="1416" y="410"/>
                        </a:lnTo>
                        <a:lnTo>
                          <a:pt x="1416" y="291"/>
                        </a:lnTo>
                        <a:lnTo>
                          <a:pt x="1350" y="286"/>
                        </a:lnTo>
                        <a:lnTo>
                          <a:pt x="1306" y="304"/>
                        </a:lnTo>
                        <a:lnTo>
                          <a:pt x="1121" y="238"/>
                        </a:lnTo>
                        <a:lnTo>
                          <a:pt x="1072" y="286"/>
                        </a:lnTo>
                        <a:lnTo>
                          <a:pt x="1032" y="343"/>
                        </a:lnTo>
                        <a:lnTo>
                          <a:pt x="930" y="233"/>
                        </a:lnTo>
                        <a:lnTo>
                          <a:pt x="833" y="207"/>
                        </a:lnTo>
                        <a:lnTo>
                          <a:pt x="824" y="66"/>
                        </a:lnTo>
                        <a:lnTo>
                          <a:pt x="683" y="88"/>
                        </a:lnTo>
                        <a:lnTo>
                          <a:pt x="595" y="57"/>
                        </a:lnTo>
                        <a:lnTo>
                          <a:pt x="471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8053560" y="4995720"/>
                    <a:ext cx="2592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20">
                        <a:moveTo>
                          <a:pt x="31" y="0"/>
                        </a:moveTo>
                        <a:lnTo>
                          <a:pt x="40" y="35"/>
                        </a:lnTo>
                        <a:lnTo>
                          <a:pt x="31" y="62"/>
                        </a:lnTo>
                        <a:lnTo>
                          <a:pt x="31" y="84"/>
                        </a:lnTo>
                        <a:lnTo>
                          <a:pt x="72" y="102"/>
                        </a:lnTo>
                        <a:lnTo>
                          <a:pt x="72" y="120"/>
                        </a:lnTo>
                        <a:lnTo>
                          <a:pt x="40" y="102"/>
                        </a:lnTo>
                        <a:lnTo>
                          <a:pt x="13" y="120"/>
                        </a:lnTo>
                        <a:lnTo>
                          <a:pt x="0" y="102"/>
                        </a:lnTo>
                        <a:lnTo>
                          <a:pt x="13" y="84"/>
                        </a:lnTo>
                        <a:lnTo>
                          <a:pt x="0" y="62"/>
                        </a:lnTo>
                        <a:lnTo>
                          <a:pt x="13" y="17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7918560" y="5189400"/>
                    <a:ext cx="106560" cy="152640"/>
                  </a:xfrm>
                  <a:custGeom>
                    <a:avLst/>
                    <a:gdLst/>
                    <a:ahLst/>
                    <a:rect l="0" t="0" r="r" b="b"/>
                    <a:pathLst>
                      <a:path w="296" h="424">
                        <a:moveTo>
                          <a:pt x="0" y="211"/>
                        </a:moveTo>
                        <a:lnTo>
                          <a:pt x="105" y="211"/>
                        </a:lnTo>
                        <a:lnTo>
                          <a:pt x="230" y="0"/>
                        </a:lnTo>
                        <a:lnTo>
                          <a:pt x="296" y="123"/>
                        </a:lnTo>
                        <a:lnTo>
                          <a:pt x="243" y="424"/>
                        </a:lnTo>
                        <a:lnTo>
                          <a:pt x="22" y="353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8132760" y="5248440"/>
                    <a:ext cx="18468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11">
                        <a:moveTo>
                          <a:pt x="30" y="97"/>
                        </a:moveTo>
                        <a:lnTo>
                          <a:pt x="0" y="0"/>
                        </a:lnTo>
                        <a:lnTo>
                          <a:pt x="172" y="39"/>
                        </a:lnTo>
                        <a:lnTo>
                          <a:pt x="420" y="141"/>
                        </a:lnTo>
                        <a:lnTo>
                          <a:pt x="420" y="217"/>
                        </a:lnTo>
                        <a:lnTo>
                          <a:pt x="513" y="411"/>
                        </a:lnTo>
                        <a:lnTo>
                          <a:pt x="322" y="225"/>
                        </a:lnTo>
                        <a:lnTo>
                          <a:pt x="195" y="239"/>
                        </a:lnTo>
                        <a:lnTo>
                          <a:pt x="30" y="9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8485200" y="5551560"/>
                    <a:ext cx="124200" cy="15912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442">
                        <a:moveTo>
                          <a:pt x="212" y="0"/>
                        </a:moveTo>
                        <a:lnTo>
                          <a:pt x="345" y="133"/>
                        </a:lnTo>
                        <a:lnTo>
                          <a:pt x="70" y="442"/>
                        </a:lnTo>
                        <a:lnTo>
                          <a:pt x="0" y="372"/>
                        </a:lnTo>
                        <a:lnTo>
                          <a:pt x="199" y="172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622920" y="4462560"/>
                    <a:ext cx="60840" cy="103680"/>
                  </a:xfrm>
                  <a:custGeom>
                    <a:avLst/>
                    <a:gdLst/>
                    <a:ahLst/>
                    <a:rect l="0" t="0" r="r" b="b"/>
                    <a:pathLst>
                      <a:path w="169" h="288">
                        <a:moveTo>
                          <a:pt x="169" y="226"/>
                        </a:moveTo>
                        <a:lnTo>
                          <a:pt x="124" y="190"/>
                        </a:lnTo>
                        <a:lnTo>
                          <a:pt x="124" y="61"/>
                        </a:lnTo>
                        <a:lnTo>
                          <a:pt x="147" y="35"/>
                        </a:lnTo>
                        <a:lnTo>
                          <a:pt x="106" y="35"/>
                        </a:lnTo>
                        <a:lnTo>
                          <a:pt x="129" y="0"/>
                        </a:lnTo>
                        <a:lnTo>
                          <a:pt x="98" y="0"/>
                        </a:lnTo>
                        <a:lnTo>
                          <a:pt x="62" y="39"/>
                        </a:lnTo>
                        <a:lnTo>
                          <a:pt x="62" y="120"/>
                        </a:lnTo>
                        <a:lnTo>
                          <a:pt x="80" y="137"/>
                        </a:lnTo>
                        <a:lnTo>
                          <a:pt x="80" y="172"/>
                        </a:lnTo>
                        <a:lnTo>
                          <a:pt x="71" y="172"/>
                        </a:lnTo>
                        <a:lnTo>
                          <a:pt x="39" y="203"/>
                        </a:lnTo>
                        <a:lnTo>
                          <a:pt x="39" y="235"/>
                        </a:lnTo>
                        <a:lnTo>
                          <a:pt x="0" y="288"/>
                        </a:lnTo>
                        <a:lnTo>
                          <a:pt x="129" y="288"/>
                        </a:lnTo>
                        <a:lnTo>
                          <a:pt x="169" y="22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6602400" y="4497480"/>
                    <a:ext cx="3204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89" h="102">
                        <a:moveTo>
                          <a:pt x="75" y="35"/>
                        </a:moveTo>
                        <a:lnTo>
                          <a:pt x="89" y="35"/>
                        </a:lnTo>
                        <a:lnTo>
                          <a:pt x="89" y="0"/>
                        </a:lnTo>
                        <a:lnTo>
                          <a:pt x="58" y="0"/>
                        </a:lnTo>
                        <a:lnTo>
                          <a:pt x="0" y="67"/>
                        </a:lnTo>
                        <a:lnTo>
                          <a:pt x="0" y="102"/>
                        </a:lnTo>
                        <a:lnTo>
                          <a:pt x="53" y="102"/>
                        </a:lnTo>
                        <a:lnTo>
                          <a:pt x="75" y="75"/>
                        </a:lnTo>
                        <a:lnTo>
                          <a:pt x="75" y="3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553080" y="4435560"/>
                    <a:ext cx="405000" cy="34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125" h="949">
                        <a:moveTo>
                          <a:pt x="741" y="0"/>
                        </a:moveTo>
                        <a:lnTo>
                          <a:pt x="741" y="66"/>
                        </a:lnTo>
                        <a:lnTo>
                          <a:pt x="763" y="88"/>
                        </a:lnTo>
                        <a:lnTo>
                          <a:pt x="887" y="88"/>
                        </a:lnTo>
                        <a:lnTo>
                          <a:pt x="887" y="123"/>
                        </a:lnTo>
                        <a:lnTo>
                          <a:pt x="799" y="123"/>
                        </a:lnTo>
                        <a:lnTo>
                          <a:pt x="799" y="229"/>
                        </a:lnTo>
                        <a:lnTo>
                          <a:pt x="759" y="180"/>
                        </a:lnTo>
                        <a:lnTo>
                          <a:pt x="759" y="246"/>
                        </a:lnTo>
                        <a:lnTo>
                          <a:pt x="706" y="308"/>
                        </a:lnTo>
                        <a:lnTo>
                          <a:pt x="671" y="273"/>
                        </a:lnTo>
                        <a:lnTo>
                          <a:pt x="618" y="317"/>
                        </a:lnTo>
                        <a:lnTo>
                          <a:pt x="609" y="304"/>
                        </a:lnTo>
                        <a:lnTo>
                          <a:pt x="542" y="304"/>
                        </a:lnTo>
                        <a:lnTo>
                          <a:pt x="578" y="260"/>
                        </a:lnTo>
                        <a:lnTo>
                          <a:pt x="578" y="242"/>
                        </a:lnTo>
                        <a:lnTo>
                          <a:pt x="546" y="211"/>
                        </a:lnTo>
                        <a:lnTo>
                          <a:pt x="546" y="163"/>
                        </a:lnTo>
                        <a:lnTo>
                          <a:pt x="502" y="211"/>
                        </a:lnTo>
                        <a:lnTo>
                          <a:pt x="502" y="304"/>
                        </a:lnTo>
                        <a:lnTo>
                          <a:pt x="449" y="304"/>
                        </a:lnTo>
                        <a:lnTo>
                          <a:pt x="383" y="370"/>
                        </a:lnTo>
                        <a:lnTo>
                          <a:pt x="357" y="370"/>
                        </a:lnTo>
                        <a:lnTo>
                          <a:pt x="321" y="414"/>
                        </a:lnTo>
                        <a:lnTo>
                          <a:pt x="189" y="414"/>
                        </a:lnTo>
                        <a:lnTo>
                          <a:pt x="233" y="477"/>
                        </a:lnTo>
                        <a:lnTo>
                          <a:pt x="233" y="574"/>
                        </a:lnTo>
                        <a:lnTo>
                          <a:pt x="189" y="631"/>
                        </a:lnTo>
                        <a:lnTo>
                          <a:pt x="136" y="574"/>
                        </a:lnTo>
                        <a:lnTo>
                          <a:pt x="35" y="574"/>
                        </a:lnTo>
                        <a:lnTo>
                          <a:pt x="35" y="644"/>
                        </a:lnTo>
                        <a:lnTo>
                          <a:pt x="0" y="688"/>
                        </a:lnTo>
                        <a:lnTo>
                          <a:pt x="0" y="781"/>
                        </a:lnTo>
                        <a:lnTo>
                          <a:pt x="66" y="856"/>
                        </a:lnTo>
                        <a:lnTo>
                          <a:pt x="163" y="856"/>
                        </a:lnTo>
                        <a:lnTo>
                          <a:pt x="313" y="675"/>
                        </a:lnTo>
                        <a:lnTo>
                          <a:pt x="445" y="675"/>
                        </a:lnTo>
                        <a:lnTo>
                          <a:pt x="463" y="640"/>
                        </a:lnTo>
                        <a:lnTo>
                          <a:pt x="493" y="675"/>
                        </a:lnTo>
                        <a:lnTo>
                          <a:pt x="489" y="710"/>
                        </a:lnTo>
                        <a:lnTo>
                          <a:pt x="613" y="834"/>
                        </a:lnTo>
                        <a:lnTo>
                          <a:pt x="613" y="887"/>
                        </a:lnTo>
                        <a:lnTo>
                          <a:pt x="640" y="865"/>
                        </a:lnTo>
                        <a:lnTo>
                          <a:pt x="627" y="834"/>
                        </a:lnTo>
                        <a:lnTo>
                          <a:pt x="640" y="816"/>
                        </a:lnTo>
                        <a:lnTo>
                          <a:pt x="662" y="834"/>
                        </a:lnTo>
                        <a:lnTo>
                          <a:pt x="671" y="830"/>
                        </a:lnTo>
                        <a:lnTo>
                          <a:pt x="542" y="671"/>
                        </a:lnTo>
                        <a:lnTo>
                          <a:pt x="542" y="613"/>
                        </a:lnTo>
                        <a:lnTo>
                          <a:pt x="578" y="613"/>
                        </a:lnTo>
                        <a:lnTo>
                          <a:pt x="578" y="644"/>
                        </a:lnTo>
                        <a:lnTo>
                          <a:pt x="706" y="785"/>
                        </a:lnTo>
                        <a:lnTo>
                          <a:pt x="706" y="830"/>
                        </a:lnTo>
                        <a:lnTo>
                          <a:pt x="759" y="891"/>
                        </a:lnTo>
                        <a:lnTo>
                          <a:pt x="746" y="904"/>
                        </a:lnTo>
                        <a:lnTo>
                          <a:pt x="785" y="949"/>
                        </a:lnTo>
                        <a:lnTo>
                          <a:pt x="843" y="882"/>
                        </a:lnTo>
                        <a:lnTo>
                          <a:pt x="807" y="843"/>
                        </a:lnTo>
                        <a:lnTo>
                          <a:pt x="843" y="803"/>
                        </a:lnTo>
                        <a:lnTo>
                          <a:pt x="891" y="803"/>
                        </a:lnTo>
                        <a:lnTo>
                          <a:pt x="913" y="781"/>
                        </a:lnTo>
                        <a:lnTo>
                          <a:pt x="944" y="781"/>
                        </a:lnTo>
                        <a:lnTo>
                          <a:pt x="904" y="724"/>
                        </a:lnTo>
                        <a:lnTo>
                          <a:pt x="927" y="697"/>
                        </a:lnTo>
                        <a:lnTo>
                          <a:pt x="927" y="605"/>
                        </a:lnTo>
                        <a:lnTo>
                          <a:pt x="966" y="556"/>
                        </a:lnTo>
                        <a:lnTo>
                          <a:pt x="984" y="574"/>
                        </a:lnTo>
                        <a:lnTo>
                          <a:pt x="1024" y="574"/>
                        </a:lnTo>
                        <a:lnTo>
                          <a:pt x="1006" y="600"/>
                        </a:lnTo>
                        <a:lnTo>
                          <a:pt x="1041" y="640"/>
                        </a:lnTo>
                        <a:lnTo>
                          <a:pt x="1063" y="605"/>
                        </a:lnTo>
                        <a:lnTo>
                          <a:pt x="1090" y="605"/>
                        </a:lnTo>
                        <a:lnTo>
                          <a:pt x="1090" y="591"/>
                        </a:lnTo>
                        <a:lnTo>
                          <a:pt x="1076" y="591"/>
                        </a:lnTo>
                        <a:lnTo>
                          <a:pt x="1054" y="574"/>
                        </a:lnTo>
                        <a:lnTo>
                          <a:pt x="1112" y="503"/>
                        </a:lnTo>
                        <a:lnTo>
                          <a:pt x="1112" y="605"/>
                        </a:lnTo>
                        <a:lnTo>
                          <a:pt x="1125" y="605"/>
                        </a:lnTo>
                        <a:lnTo>
                          <a:pt x="1125" y="0"/>
                        </a:lnTo>
                        <a:lnTo>
                          <a:pt x="741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6726240" y="4073400"/>
                    <a:ext cx="1727640" cy="1219680"/>
                  </a:xfrm>
                  <a:custGeom>
                    <a:avLst/>
                    <a:gdLst/>
                    <a:ahLst/>
                    <a:rect l="0" t="0" r="r" b="b"/>
                    <a:pathLst>
                      <a:path w="4799" h="3388">
                        <a:moveTo>
                          <a:pt x="0" y="997"/>
                        </a:moveTo>
                        <a:lnTo>
                          <a:pt x="141" y="891"/>
                        </a:lnTo>
                        <a:lnTo>
                          <a:pt x="273" y="687"/>
                        </a:lnTo>
                        <a:lnTo>
                          <a:pt x="436" y="590"/>
                        </a:lnTo>
                        <a:lnTo>
                          <a:pt x="604" y="705"/>
                        </a:lnTo>
                        <a:lnTo>
                          <a:pt x="626" y="798"/>
                        </a:lnTo>
                        <a:lnTo>
                          <a:pt x="586" y="798"/>
                        </a:lnTo>
                        <a:lnTo>
                          <a:pt x="520" y="789"/>
                        </a:lnTo>
                        <a:lnTo>
                          <a:pt x="604" y="891"/>
                        </a:lnTo>
                        <a:lnTo>
                          <a:pt x="952" y="758"/>
                        </a:lnTo>
                        <a:lnTo>
                          <a:pt x="908" y="657"/>
                        </a:lnTo>
                        <a:lnTo>
                          <a:pt x="1058" y="485"/>
                        </a:lnTo>
                        <a:lnTo>
                          <a:pt x="1155" y="489"/>
                        </a:lnTo>
                        <a:lnTo>
                          <a:pt x="1062" y="546"/>
                        </a:lnTo>
                        <a:lnTo>
                          <a:pt x="983" y="674"/>
                        </a:lnTo>
                        <a:lnTo>
                          <a:pt x="983" y="758"/>
                        </a:lnTo>
                        <a:lnTo>
                          <a:pt x="1124" y="852"/>
                        </a:lnTo>
                        <a:lnTo>
                          <a:pt x="1328" y="586"/>
                        </a:lnTo>
                        <a:lnTo>
                          <a:pt x="2033" y="277"/>
                        </a:lnTo>
                        <a:lnTo>
                          <a:pt x="2029" y="101"/>
                        </a:lnTo>
                        <a:lnTo>
                          <a:pt x="2351" y="35"/>
                        </a:lnTo>
                        <a:lnTo>
                          <a:pt x="2532" y="127"/>
                        </a:lnTo>
                        <a:lnTo>
                          <a:pt x="2959" y="0"/>
                        </a:lnTo>
                        <a:lnTo>
                          <a:pt x="3092" y="66"/>
                        </a:lnTo>
                        <a:lnTo>
                          <a:pt x="3378" y="374"/>
                        </a:lnTo>
                        <a:lnTo>
                          <a:pt x="3706" y="313"/>
                        </a:lnTo>
                        <a:lnTo>
                          <a:pt x="3909" y="423"/>
                        </a:lnTo>
                        <a:lnTo>
                          <a:pt x="4416" y="401"/>
                        </a:lnTo>
                        <a:lnTo>
                          <a:pt x="4799" y="520"/>
                        </a:lnTo>
                        <a:lnTo>
                          <a:pt x="4764" y="687"/>
                        </a:lnTo>
                        <a:lnTo>
                          <a:pt x="4438" y="798"/>
                        </a:lnTo>
                        <a:lnTo>
                          <a:pt x="4495" y="909"/>
                        </a:lnTo>
                        <a:lnTo>
                          <a:pt x="4354" y="971"/>
                        </a:lnTo>
                        <a:lnTo>
                          <a:pt x="4345" y="1191"/>
                        </a:lnTo>
                        <a:lnTo>
                          <a:pt x="4222" y="1341"/>
                        </a:lnTo>
                        <a:lnTo>
                          <a:pt x="4169" y="1204"/>
                        </a:lnTo>
                        <a:lnTo>
                          <a:pt x="4239" y="1076"/>
                        </a:lnTo>
                        <a:lnTo>
                          <a:pt x="4226" y="811"/>
                        </a:lnTo>
                        <a:lnTo>
                          <a:pt x="4098" y="949"/>
                        </a:lnTo>
                        <a:lnTo>
                          <a:pt x="3997" y="1024"/>
                        </a:lnTo>
                        <a:lnTo>
                          <a:pt x="3900" y="904"/>
                        </a:lnTo>
                        <a:lnTo>
                          <a:pt x="3829" y="1204"/>
                        </a:lnTo>
                        <a:lnTo>
                          <a:pt x="3904" y="1204"/>
                        </a:lnTo>
                        <a:lnTo>
                          <a:pt x="3886" y="1403"/>
                        </a:lnTo>
                        <a:lnTo>
                          <a:pt x="3798" y="1614"/>
                        </a:lnTo>
                        <a:lnTo>
                          <a:pt x="3692" y="1698"/>
                        </a:lnTo>
                        <a:lnTo>
                          <a:pt x="3781" y="1839"/>
                        </a:lnTo>
                        <a:lnTo>
                          <a:pt x="3723" y="1936"/>
                        </a:lnTo>
                        <a:lnTo>
                          <a:pt x="3701" y="1853"/>
                        </a:lnTo>
                        <a:lnTo>
                          <a:pt x="3701" y="1822"/>
                        </a:lnTo>
                        <a:lnTo>
                          <a:pt x="3631" y="1773"/>
                        </a:lnTo>
                        <a:lnTo>
                          <a:pt x="3515" y="1835"/>
                        </a:lnTo>
                        <a:lnTo>
                          <a:pt x="3617" y="2069"/>
                        </a:lnTo>
                        <a:lnTo>
                          <a:pt x="3653" y="2188"/>
                        </a:lnTo>
                        <a:lnTo>
                          <a:pt x="3533" y="2510"/>
                        </a:lnTo>
                        <a:lnTo>
                          <a:pt x="3312" y="2599"/>
                        </a:lnTo>
                        <a:lnTo>
                          <a:pt x="3131" y="2581"/>
                        </a:lnTo>
                        <a:lnTo>
                          <a:pt x="3220" y="2713"/>
                        </a:lnTo>
                        <a:lnTo>
                          <a:pt x="3228" y="2899"/>
                        </a:lnTo>
                        <a:lnTo>
                          <a:pt x="3101" y="3115"/>
                        </a:lnTo>
                        <a:lnTo>
                          <a:pt x="2955" y="2996"/>
                        </a:lnTo>
                        <a:lnTo>
                          <a:pt x="2933" y="3124"/>
                        </a:lnTo>
                        <a:lnTo>
                          <a:pt x="3043" y="3229"/>
                        </a:lnTo>
                        <a:lnTo>
                          <a:pt x="3136" y="3388"/>
                        </a:lnTo>
                        <a:lnTo>
                          <a:pt x="2981" y="3296"/>
                        </a:lnTo>
                        <a:lnTo>
                          <a:pt x="2796" y="2762"/>
                        </a:lnTo>
                        <a:lnTo>
                          <a:pt x="2571" y="2616"/>
                        </a:lnTo>
                        <a:lnTo>
                          <a:pt x="2404" y="2630"/>
                        </a:lnTo>
                        <a:lnTo>
                          <a:pt x="2192" y="2934"/>
                        </a:lnTo>
                        <a:lnTo>
                          <a:pt x="2219" y="3040"/>
                        </a:lnTo>
                        <a:lnTo>
                          <a:pt x="2148" y="3256"/>
                        </a:lnTo>
                        <a:lnTo>
                          <a:pt x="2077" y="3256"/>
                        </a:lnTo>
                        <a:lnTo>
                          <a:pt x="1835" y="2806"/>
                        </a:lnTo>
                        <a:lnTo>
                          <a:pt x="1835" y="2612"/>
                        </a:lnTo>
                        <a:lnTo>
                          <a:pt x="1782" y="2683"/>
                        </a:lnTo>
                        <a:lnTo>
                          <a:pt x="1645" y="2678"/>
                        </a:lnTo>
                        <a:lnTo>
                          <a:pt x="1698" y="2559"/>
                        </a:lnTo>
                        <a:lnTo>
                          <a:pt x="1482" y="2404"/>
                        </a:lnTo>
                        <a:lnTo>
                          <a:pt x="1213" y="2404"/>
                        </a:lnTo>
                        <a:lnTo>
                          <a:pt x="983" y="2249"/>
                        </a:lnTo>
                        <a:lnTo>
                          <a:pt x="970" y="2404"/>
                        </a:lnTo>
                        <a:lnTo>
                          <a:pt x="1159" y="2546"/>
                        </a:lnTo>
                        <a:lnTo>
                          <a:pt x="1226" y="2542"/>
                        </a:lnTo>
                        <a:lnTo>
                          <a:pt x="1031" y="2736"/>
                        </a:lnTo>
                        <a:lnTo>
                          <a:pt x="837" y="2780"/>
                        </a:lnTo>
                        <a:lnTo>
                          <a:pt x="837" y="2669"/>
                        </a:lnTo>
                        <a:lnTo>
                          <a:pt x="560" y="2285"/>
                        </a:lnTo>
                        <a:lnTo>
                          <a:pt x="524" y="2183"/>
                        </a:lnTo>
                        <a:lnTo>
                          <a:pt x="674" y="2060"/>
                        </a:lnTo>
                        <a:lnTo>
                          <a:pt x="657" y="1906"/>
                        </a:lnTo>
                        <a:lnTo>
                          <a:pt x="657" y="1734"/>
                        </a:lnTo>
                        <a:lnTo>
                          <a:pt x="732" y="1698"/>
                        </a:lnTo>
                        <a:lnTo>
                          <a:pt x="657" y="1614"/>
                        </a:lnTo>
                        <a:lnTo>
                          <a:pt x="657" y="997"/>
                        </a:lnTo>
                        <a:lnTo>
                          <a:pt x="268" y="997"/>
                        </a:lnTo>
                        <a:lnTo>
                          <a:pt x="379" y="852"/>
                        </a:lnTo>
                        <a:lnTo>
                          <a:pt x="370" y="798"/>
                        </a:lnTo>
                        <a:lnTo>
                          <a:pt x="242" y="927"/>
                        </a:lnTo>
                        <a:lnTo>
                          <a:pt x="198" y="997"/>
                        </a:lnTo>
                        <a:lnTo>
                          <a:pt x="0" y="99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8089920" y="4572000"/>
                    <a:ext cx="147960" cy="24804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689">
                        <a:moveTo>
                          <a:pt x="278" y="0"/>
                        </a:moveTo>
                        <a:lnTo>
                          <a:pt x="278" y="88"/>
                        </a:lnTo>
                        <a:lnTo>
                          <a:pt x="243" y="145"/>
                        </a:lnTo>
                        <a:lnTo>
                          <a:pt x="252" y="239"/>
                        </a:lnTo>
                        <a:lnTo>
                          <a:pt x="208" y="362"/>
                        </a:lnTo>
                        <a:lnTo>
                          <a:pt x="136" y="477"/>
                        </a:lnTo>
                        <a:lnTo>
                          <a:pt x="30" y="553"/>
                        </a:lnTo>
                        <a:lnTo>
                          <a:pt x="0" y="681"/>
                        </a:lnTo>
                        <a:lnTo>
                          <a:pt x="44" y="689"/>
                        </a:lnTo>
                        <a:lnTo>
                          <a:pt x="44" y="570"/>
                        </a:lnTo>
                        <a:lnTo>
                          <a:pt x="194" y="562"/>
                        </a:lnTo>
                        <a:lnTo>
                          <a:pt x="305" y="481"/>
                        </a:lnTo>
                        <a:lnTo>
                          <a:pt x="305" y="318"/>
                        </a:lnTo>
                        <a:lnTo>
                          <a:pt x="340" y="256"/>
                        </a:lnTo>
                        <a:lnTo>
                          <a:pt x="283" y="149"/>
                        </a:lnTo>
                        <a:lnTo>
                          <a:pt x="362" y="119"/>
                        </a:lnTo>
                        <a:lnTo>
                          <a:pt x="411" y="35"/>
                        </a:lnTo>
                        <a:lnTo>
                          <a:pt x="305" y="48"/>
                        </a:lnTo>
                        <a:lnTo>
                          <a:pt x="278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7526160" y="5237280"/>
                    <a:ext cx="2880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55">
                        <a:moveTo>
                          <a:pt x="39" y="0"/>
                        </a:moveTo>
                        <a:lnTo>
                          <a:pt x="0" y="70"/>
                        </a:lnTo>
                        <a:lnTo>
                          <a:pt x="26" y="155"/>
                        </a:lnTo>
                        <a:lnTo>
                          <a:pt x="80" y="93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7753320" y="5297400"/>
                    <a:ext cx="34812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967" h="411">
                        <a:moveTo>
                          <a:pt x="0" y="0"/>
                        </a:moveTo>
                        <a:lnTo>
                          <a:pt x="145" y="30"/>
                        </a:lnTo>
                        <a:lnTo>
                          <a:pt x="362" y="180"/>
                        </a:lnTo>
                        <a:lnTo>
                          <a:pt x="331" y="265"/>
                        </a:lnTo>
                        <a:lnTo>
                          <a:pt x="508" y="340"/>
                        </a:lnTo>
                        <a:lnTo>
                          <a:pt x="967" y="340"/>
                        </a:lnTo>
                        <a:lnTo>
                          <a:pt x="468" y="411"/>
                        </a:lnTo>
                        <a:lnTo>
                          <a:pt x="331" y="265"/>
                        </a:lnTo>
                        <a:lnTo>
                          <a:pt x="202" y="2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8031240" y="5421240"/>
                    <a:ext cx="373320" cy="3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971">
                        <a:moveTo>
                          <a:pt x="865" y="949"/>
                        </a:moveTo>
                        <a:lnTo>
                          <a:pt x="838" y="953"/>
                        </a:lnTo>
                        <a:lnTo>
                          <a:pt x="816" y="971"/>
                        </a:lnTo>
                        <a:lnTo>
                          <a:pt x="790" y="935"/>
                        </a:lnTo>
                        <a:lnTo>
                          <a:pt x="697" y="891"/>
                        </a:lnTo>
                        <a:lnTo>
                          <a:pt x="680" y="825"/>
                        </a:lnTo>
                        <a:lnTo>
                          <a:pt x="649" y="803"/>
                        </a:lnTo>
                        <a:lnTo>
                          <a:pt x="574" y="803"/>
                        </a:lnTo>
                        <a:lnTo>
                          <a:pt x="574" y="750"/>
                        </a:lnTo>
                        <a:lnTo>
                          <a:pt x="547" y="737"/>
                        </a:lnTo>
                        <a:lnTo>
                          <a:pt x="543" y="693"/>
                        </a:lnTo>
                        <a:lnTo>
                          <a:pt x="485" y="684"/>
                        </a:lnTo>
                        <a:lnTo>
                          <a:pt x="432" y="671"/>
                        </a:lnTo>
                        <a:lnTo>
                          <a:pt x="383" y="684"/>
                        </a:lnTo>
                        <a:lnTo>
                          <a:pt x="383" y="693"/>
                        </a:lnTo>
                        <a:lnTo>
                          <a:pt x="273" y="728"/>
                        </a:lnTo>
                        <a:lnTo>
                          <a:pt x="273" y="746"/>
                        </a:lnTo>
                        <a:lnTo>
                          <a:pt x="176" y="746"/>
                        </a:lnTo>
                        <a:lnTo>
                          <a:pt x="123" y="777"/>
                        </a:lnTo>
                        <a:lnTo>
                          <a:pt x="66" y="746"/>
                        </a:lnTo>
                        <a:lnTo>
                          <a:pt x="61" y="737"/>
                        </a:lnTo>
                        <a:lnTo>
                          <a:pt x="61" y="671"/>
                        </a:lnTo>
                        <a:lnTo>
                          <a:pt x="44" y="613"/>
                        </a:lnTo>
                        <a:lnTo>
                          <a:pt x="22" y="561"/>
                        </a:lnTo>
                        <a:lnTo>
                          <a:pt x="35" y="521"/>
                        </a:lnTo>
                        <a:lnTo>
                          <a:pt x="13" y="503"/>
                        </a:lnTo>
                        <a:lnTo>
                          <a:pt x="0" y="410"/>
                        </a:lnTo>
                        <a:lnTo>
                          <a:pt x="13" y="348"/>
                        </a:lnTo>
                        <a:lnTo>
                          <a:pt x="70" y="299"/>
                        </a:lnTo>
                        <a:lnTo>
                          <a:pt x="194" y="264"/>
                        </a:lnTo>
                        <a:lnTo>
                          <a:pt x="224" y="224"/>
                        </a:lnTo>
                        <a:lnTo>
                          <a:pt x="211" y="180"/>
                        </a:lnTo>
                        <a:lnTo>
                          <a:pt x="242" y="167"/>
                        </a:lnTo>
                        <a:lnTo>
                          <a:pt x="251" y="189"/>
                        </a:lnTo>
                        <a:lnTo>
                          <a:pt x="264" y="154"/>
                        </a:lnTo>
                        <a:lnTo>
                          <a:pt x="339" y="97"/>
                        </a:lnTo>
                        <a:lnTo>
                          <a:pt x="383" y="123"/>
                        </a:lnTo>
                        <a:lnTo>
                          <a:pt x="432" y="110"/>
                        </a:lnTo>
                        <a:lnTo>
                          <a:pt x="449" y="57"/>
                        </a:lnTo>
                        <a:lnTo>
                          <a:pt x="498" y="44"/>
                        </a:lnTo>
                        <a:lnTo>
                          <a:pt x="485" y="8"/>
                        </a:lnTo>
                        <a:lnTo>
                          <a:pt x="552" y="35"/>
                        </a:lnTo>
                        <a:lnTo>
                          <a:pt x="609" y="22"/>
                        </a:lnTo>
                        <a:lnTo>
                          <a:pt x="640" y="149"/>
                        </a:lnTo>
                        <a:lnTo>
                          <a:pt x="680" y="189"/>
                        </a:lnTo>
                        <a:lnTo>
                          <a:pt x="719" y="189"/>
                        </a:lnTo>
                        <a:lnTo>
                          <a:pt x="737" y="110"/>
                        </a:lnTo>
                        <a:lnTo>
                          <a:pt x="728" y="70"/>
                        </a:lnTo>
                        <a:lnTo>
                          <a:pt x="737" y="8"/>
                        </a:lnTo>
                        <a:lnTo>
                          <a:pt x="759" y="0"/>
                        </a:lnTo>
                        <a:lnTo>
                          <a:pt x="790" y="79"/>
                        </a:lnTo>
                        <a:lnTo>
                          <a:pt x="816" y="97"/>
                        </a:lnTo>
                        <a:lnTo>
                          <a:pt x="834" y="167"/>
                        </a:lnTo>
                        <a:lnTo>
                          <a:pt x="865" y="264"/>
                        </a:lnTo>
                        <a:lnTo>
                          <a:pt x="909" y="291"/>
                        </a:lnTo>
                        <a:lnTo>
                          <a:pt x="966" y="366"/>
                        </a:lnTo>
                        <a:lnTo>
                          <a:pt x="975" y="401"/>
                        </a:lnTo>
                        <a:lnTo>
                          <a:pt x="1024" y="445"/>
                        </a:lnTo>
                        <a:lnTo>
                          <a:pt x="1037" y="525"/>
                        </a:lnTo>
                        <a:lnTo>
                          <a:pt x="1037" y="587"/>
                        </a:lnTo>
                        <a:lnTo>
                          <a:pt x="1024" y="684"/>
                        </a:lnTo>
                        <a:lnTo>
                          <a:pt x="975" y="746"/>
                        </a:lnTo>
                        <a:lnTo>
                          <a:pt x="957" y="825"/>
                        </a:lnTo>
                        <a:lnTo>
                          <a:pt x="957" y="891"/>
                        </a:lnTo>
                        <a:lnTo>
                          <a:pt x="909" y="904"/>
                        </a:lnTo>
                        <a:lnTo>
                          <a:pt x="865" y="949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329680" y="5791320"/>
                    <a:ext cx="2736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16">
                        <a:moveTo>
                          <a:pt x="40" y="103"/>
                        </a:moveTo>
                        <a:lnTo>
                          <a:pt x="13" y="84"/>
                        </a:lnTo>
                        <a:lnTo>
                          <a:pt x="13" y="67"/>
                        </a:lnTo>
                        <a:lnTo>
                          <a:pt x="13" y="49"/>
                        </a:lnTo>
                        <a:lnTo>
                          <a:pt x="8" y="31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40" y="17"/>
                        </a:lnTo>
                        <a:lnTo>
                          <a:pt x="53" y="13"/>
                        </a:lnTo>
                        <a:lnTo>
                          <a:pt x="59" y="13"/>
                        </a:lnTo>
                        <a:lnTo>
                          <a:pt x="76" y="0"/>
                        </a:lnTo>
                        <a:lnTo>
                          <a:pt x="76" y="49"/>
                        </a:lnTo>
                        <a:lnTo>
                          <a:pt x="68" y="67"/>
                        </a:lnTo>
                        <a:lnTo>
                          <a:pt x="59" y="84"/>
                        </a:lnTo>
                        <a:lnTo>
                          <a:pt x="59" y="99"/>
                        </a:lnTo>
                        <a:lnTo>
                          <a:pt x="53" y="103"/>
                        </a:lnTo>
                        <a:lnTo>
                          <a:pt x="53" y="116"/>
                        </a:lnTo>
                        <a:lnTo>
                          <a:pt x="40" y="10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7023240" y="5389560"/>
                    <a:ext cx="39960" cy="167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64">
                        <a:moveTo>
                          <a:pt x="13" y="163"/>
                        </a:moveTo>
                        <a:lnTo>
                          <a:pt x="58" y="123"/>
                        </a:lnTo>
                        <a:lnTo>
                          <a:pt x="89" y="0"/>
                        </a:lnTo>
                        <a:lnTo>
                          <a:pt x="111" y="185"/>
                        </a:lnTo>
                        <a:lnTo>
                          <a:pt x="75" y="415"/>
                        </a:lnTo>
                        <a:lnTo>
                          <a:pt x="0" y="464"/>
                        </a:lnTo>
                        <a:lnTo>
                          <a:pt x="0" y="353"/>
                        </a:lnTo>
                        <a:lnTo>
                          <a:pt x="22" y="283"/>
                        </a:lnTo>
                        <a:lnTo>
                          <a:pt x="13" y="16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Code And Objects Between Delphi and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rad Herr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Archi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In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herrmann@wpo.borlan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1371600"/>
            <a:ext cx="7391520" cy="441972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king Functions into the 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2280" y="1676520"/>
            <a:ext cx="6629400" cy="19810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custDash>
              <a:ds d="100000" sp="100000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program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yprog.p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MyFunc : Integer;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$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myfunc.obj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86200"/>
            <a:ext cx="6019920" cy="16765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124080" y="4419720"/>
            <a:ext cx="5791320" cy="2209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object fil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yfunc.obj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x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"C" int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MyFunc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57200" y="3886200"/>
            <a:ext cx="2666880" cy="5335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57200" y="5562720"/>
            <a:ext cx="2666880" cy="10666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477120" y="3886200"/>
            <a:ext cx="2438280" cy="5335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to Choose a Pac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657440"/>
            <a:ext cx="792468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DLL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code is a whole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a lot of C++ code in th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code makes heavy use of C++ runtim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E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n’t much C++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don’t need to use the C++ runtim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sult absolutely must be one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 Forms in OWL &amp; MFC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ys of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ys of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es it mean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an o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a pointer to an object created in another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methods on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es it mean to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a cla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instance of a class in another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an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 a new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ys of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 Pascal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92720" y="2286000"/>
            <a:ext cx="4675680" cy="4038840"/>
          </a:xfrm>
          <a:custGeom>
            <a:avLst/>
            <a:gdLst/>
            <a:ahLst/>
            <a:rect l="0" t="0" r="r" b="b"/>
            <a:pathLst>
              <a:path w="12988" h="11219">
                <a:moveTo>
                  <a:pt x="5252" y="476"/>
                </a:moveTo>
                <a:lnTo>
                  <a:pt x="4909" y="299"/>
                </a:lnTo>
                <a:lnTo>
                  <a:pt x="4251" y="171"/>
                </a:lnTo>
                <a:lnTo>
                  <a:pt x="3594" y="88"/>
                </a:lnTo>
                <a:lnTo>
                  <a:pt x="2848" y="0"/>
                </a:lnTo>
                <a:lnTo>
                  <a:pt x="2099" y="0"/>
                </a:lnTo>
                <a:lnTo>
                  <a:pt x="1450" y="0"/>
                </a:lnTo>
                <a:lnTo>
                  <a:pt x="1168" y="0"/>
                </a:lnTo>
                <a:lnTo>
                  <a:pt x="934" y="39"/>
                </a:lnTo>
                <a:lnTo>
                  <a:pt x="793" y="127"/>
                </a:lnTo>
                <a:lnTo>
                  <a:pt x="701" y="299"/>
                </a:lnTo>
                <a:lnTo>
                  <a:pt x="701" y="515"/>
                </a:lnTo>
                <a:lnTo>
                  <a:pt x="701" y="732"/>
                </a:lnTo>
                <a:lnTo>
                  <a:pt x="701" y="899"/>
                </a:lnTo>
                <a:lnTo>
                  <a:pt x="749" y="1120"/>
                </a:lnTo>
                <a:lnTo>
                  <a:pt x="749" y="1247"/>
                </a:lnTo>
                <a:lnTo>
                  <a:pt x="749" y="1375"/>
                </a:lnTo>
                <a:lnTo>
                  <a:pt x="749" y="1503"/>
                </a:lnTo>
                <a:lnTo>
                  <a:pt x="749" y="1631"/>
                </a:lnTo>
                <a:lnTo>
                  <a:pt x="701" y="1763"/>
                </a:lnTo>
                <a:lnTo>
                  <a:pt x="604" y="1979"/>
                </a:lnTo>
                <a:lnTo>
                  <a:pt x="515" y="2147"/>
                </a:lnTo>
                <a:lnTo>
                  <a:pt x="423" y="2363"/>
                </a:lnTo>
                <a:lnTo>
                  <a:pt x="326" y="2535"/>
                </a:lnTo>
                <a:lnTo>
                  <a:pt x="233" y="2791"/>
                </a:lnTo>
                <a:lnTo>
                  <a:pt x="136" y="2967"/>
                </a:lnTo>
                <a:lnTo>
                  <a:pt x="48" y="3179"/>
                </a:lnTo>
                <a:lnTo>
                  <a:pt x="48" y="3355"/>
                </a:lnTo>
                <a:lnTo>
                  <a:pt x="0" y="3523"/>
                </a:lnTo>
                <a:lnTo>
                  <a:pt x="0" y="3695"/>
                </a:lnTo>
                <a:lnTo>
                  <a:pt x="0" y="3871"/>
                </a:lnTo>
                <a:lnTo>
                  <a:pt x="0" y="4039"/>
                </a:lnTo>
                <a:lnTo>
                  <a:pt x="0" y="4211"/>
                </a:lnTo>
                <a:lnTo>
                  <a:pt x="0" y="4339"/>
                </a:lnTo>
                <a:lnTo>
                  <a:pt x="0" y="4467"/>
                </a:lnTo>
                <a:lnTo>
                  <a:pt x="0" y="4603"/>
                </a:lnTo>
                <a:lnTo>
                  <a:pt x="0" y="4731"/>
                </a:lnTo>
                <a:lnTo>
                  <a:pt x="48" y="4899"/>
                </a:lnTo>
                <a:lnTo>
                  <a:pt x="92" y="5110"/>
                </a:lnTo>
                <a:lnTo>
                  <a:pt x="136" y="5287"/>
                </a:lnTo>
                <a:lnTo>
                  <a:pt x="189" y="5459"/>
                </a:lnTo>
                <a:lnTo>
                  <a:pt x="233" y="5632"/>
                </a:lnTo>
                <a:lnTo>
                  <a:pt x="282" y="5804"/>
                </a:lnTo>
                <a:lnTo>
                  <a:pt x="282" y="5980"/>
                </a:lnTo>
                <a:lnTo>
                  <a:pt x="282" y="6192"/>
                </a:lnTo>
                <a:lnTo>
                  <a:pt x="233" y="6320"/>
                </a:lnTo>
                <a:lnTo>
                  <a:pt x="189" y="6487"/>
                </a:lnTo>
                <a:lnTo>
                  <a:pt x="189" y="6664"/>
                </a:lnTo>
                <a:lnTo>
                  <a:pt x="92" y="6880"/>
                </a:lnTo>
                <a:lnTo>
                  <a:pt x="48" y="7052"/>
                </a:lnTo>
                <a:lnTo>
                  <a:pt x="0" y="7268"/>
                </a:lnTo>
                <a:lnTo>
                  <a:pt x="0" y="7479"/>
                </a:lnTo>
                <a:lnTo>
                  <a:pt x="0" y="7735"/>
                </a:lnTo>
                <a:lnTo>
                  <a:pt x="0" y="8000"/>
                </a:lnTo>
                <a:lnTo>
                  <a:pt x="0" y="8251"/>
                </a:lnTo>
                <a:lnTo>
                  <a:pt x="92" y="8427"/>
                </a:lnTo>
                <a:lnTo>
                  <a:pt x="189" y="8644"/>
                </a:lnTo>
                <a:lnTo>
                  <a:pt x="326" y="8771"/>
                </a:lnTo>
                <a:lnTo>
                  <a:pt x="467" y="8983"/>
                </a:lnTo>
                <a:lnTo>
                  <a:pt x="701" y="9159"/>
                </a:lnTo>
                <a:lnTo>
                  <a:pt x="934" y="9327"/>
                </a:lnTo>
                <a:lnTo>
                  <a:pt x="1168" y="9459"/>
                </a:lnTo>
                <a:lnTo>
                  <a:pt x="1358" y="9587"/>
                </a:lnTo>
                <a:lnTo>
                  <a:pt x="1494" y="9675"/>
                </a:lnTo>
                <a:lnTo>
                  <a:pt x="1684" y="9803"/>
                </a:lnTo>
                <a:lnTo>
                  <a:pt x="1918" y="9931"/>
                </a:lnTo>
                <a:lnTo>
                  <a:pt x="2575" y="10019"/>
                </a:lnTo>
                <a:lnTo>
                  <a:pt x="3223" y="10147"/>
                </a:lnTo>
                <a:lnTo>
                  <a:pt x="3881" y="10231"/>
                </a:lnTo>
                <a:lnTo>
                  <a:pt x="4622" y="10359"/>
                </a:lnTo>
                <a:lnTo>
                  <a:pt x="5279" y="10535"/>
                </a:lnTo>
                <a:lnTo>
                  <a:pt x="5936" y="10663"/>
                </a:lnTo>
                <a:lnTo>
                  <a:pt x="6593" y="10791"/>
                </a:lnTo>
                <a:lnTo>
                  <a:pt x="6827" y="10919"/>
                </a:lnTo>
                <a:lnTo>
                  <a:pt x="7060" y="11003"/>
                </a:lnTo>
                <a:lnTo>
                  <a:pt x="7241" y="11051"/>
                </a:lnTo>
                <a:lnTo>
                  <a:pt x="7475" y="11131"/>
                </a:lnTo>
                <a:lnTo>
                  <a:pt x="7757" y="11179"/>
                </a:lnTo>
                <a:lnTo>
                  <a:pt x="8035" y="11219"/>
                </a:lnTo>
                <a:lnTo>
                  <a:pt x="8322" y="11219"/>
                </a:lnTo>
                <a:lnTo>
                  <a:pt x="8551" y="11219"/>
                </a:lnTo>
                <a:lnTo>
                  <a:pt x="8736" y="11091"/>
                </a:lnTo>
                <a:lnTo>
                  <a:pt x="8926" y="10963"/>
                </a:lnTo>
                <a:lnTo>
                  <a:pt x="9159" y="10875"/>
                </a:lnTo>
                <a:lnTo>
                  <a:pt x="9393" y="10747"/>
                </a:lnTo>
                <a:lnTo>
                  <a:pt x="9583" y="10619"/>
                </a:lnTo>
                <a:lnTo>
                  <a:pt x="9671" y="10407"/>
                </a:lnTo>
                <a:lnTo>
                  <a:pt x="9671" y="10147"/>
                </a:lnTo>
                <a:lnTo>
                  <a:pt x="9671" y="9459"/>
                </a:lnTo>
                <a:lnTo>
                  <a:pt x="9583" y="8855"/>
                </a:lnTo>
                <a:lnTo>
                  <a:pt x="9486" y="8644"/>
                </a:lnTo>
                <a:lnTo>
                  <a:pt x="9437" y="8516"/>
                </a:lnTo>
                <a:lnTo>
                  <a:pt x="9349" y="8339"/>
                </a:lnTo>
                <a:lnTo>
                  <a:pt x="9252" y="8167"/>
                </a:lnTo>
                <a:lnTo>
                  <a:pt x="9204" y="7951"/>
                </a:lnTo>
                <a:lnTo>
                  <a:pt x="9159" y="7823"/>
                </a:lnTo>
                <a:lnTo>
                  <a:pt x="9159" y="7651"/>
                </a:lnTo>
                <a:lnTo>
                  <a:pt x="9159" y="7523"/>
                </a:lnTo>
                <a:lnTo>
                  <a:pt x="9252" y="7396"/>
                </a:lnTo>
                <a:lnTo>
                  <a:pt x="9393" y="7268"/>
                </a:lnTo>
                <a:lnTo>
                  <a:pt x="9583" y="7180"/>
                </a:lnTo>
                <a:lnTo>
                  <a:pt x="9818" y="7052"/>
                </a:lnTo>
                <a:lnTo>
                  <a:pt x="10466" y="6963"/>
                </a:lnTo>
                <a:lnTo>
                  <a:pt x="11123" y="6880"/>
                </a:lnTo>
                <a:lnTo>
                  <a:pt x="11775" y="6791"/>
                </a:lnTo>
                <a:lnTo>
                  <a:pt x="12009" y="6752"/>
                </a:lnTo>
                <a:lnTo>
                  <a:pt x="12243" y="6664"/>
                </a:lnTo>
                <a:lnTo>
                  <a:pt x="12428" y="6575"/>
                </a:lnTo>
                <a:lnTo>
                  <a:pt x="12618" y="6448"/>
                </a:lnTo>
                <a:lnTo>
                  <a:pt x="12710" y="6320"/>
                </a:lnTo>
                <a:lnTo>
                  <a:pt x="12807" y="6148"/>
                </a:lnTo>
                <a:lnTo>
                  <a:pt x="12900" y="6020"/>
                </a:lnTo>
                <a:lnTo>
                  <a:pt x="12944" y="5804"/>
                </a:lnTo>
                <a:lnTo>
                  <a:pt x="12944" y="5632"/>
                </a:lnTo>
                <a:lnTo>
                  <a:pt x="12988" y="5415"/>
                </a:lnTo>
                <a:lnTo>
                  <a:pt x="12988" y="5159"/>
                </a:lnTo>
                <a:lnTo>
                  <a:pt x="12944" y="4899"/>
                </a:lnTo>
                <a:lnTo>
                  <a:pt x="12900" y="4643"/>
                </a:lnTo>
                <a:lnTo>
                  <a:pt x="12807" y="4427"/>
                </a:lnTo>
                <a:lnTo>
                  <a:pt x="12710" y="4211"/>
                </a:lnTo>
                <a:lnTo>
                  <a:pt x="12574" y="3999"/>
                </a:lnTo>
                <a:lnTo>
                  <a:pt x="12477" y="3823"/>
                </a:lnTo>
                <a:lnTo>
                  <a:pt x="12340" y="3611"/>
                </a:lnTo>
                <a:lnTo>
                  <a:pt x="12194" y="3483"/>
                </a:lnTo>
                <a:lnTo>
                  <a:pt x="12053" y="3307"/>
                </a:lnTo>
                <a:lnTo>
                  <a:pt x="11961" y="3139"/>
                </a:lnTo>
                <a:lnTo>
                  <a:pt x="11775" y="3007"/>
                </a:lnTo>
                <a:lnTo>
                  <a:pt x="11639" y="2839"/>
                </a:lnTo>
                <a:lnTo>
                  <a:pt x="11493" y="2711"/>
                </a:lnTo>
                <a:lnTo>
                  <a:pt x="11357" y="2575"/>
                </a:lnTo>
                <a:lnTo>
                  <a:pt x="11215" y="2535"/>
                </a:lnTo>
                <a:lnTo>
                  <a:pt x="11079" y="2495"/>
                </a:lnTo>
                <a:lnTo>
                  <a:pt x="10933" y="2495"/>
                </a:lnTo>
                <a:lnTo>
                  <a:pt x="10792" y="2495"/>
                </a:lnTo>
                <a:lnTo>
                  <a:pt x="10655" y="2535"/>
                </a:lnTo>
                <a:lnTo>
                  <a:pt x="10466" y="2663"/>
                </a:lnTo>
                <a:lnTo>
                  <a:pt x="10325" y="2751"/>
                </a:lnTo>
                <a:lnTo>
                  <a:pt x="10188" y="2791"/>
                </a:lnTo>
                <a:lnTo>
                  <a:pt x="10047" y="2751"/>
                </a:lnTo>
                <a:lnTo>
                  <a:pt x="9906" y="2623"/>
                </a:lnTo>
                <a:lnTo>
                  <a:pt x="9765" y="2447"/>
                </a:lnTo>
                <a:lnTo>
                  <a:pt x="9583" y="2279"/>
                </a:lnTo>
                <a:lnTo>
                  <a:pt x="9393" y="2059"/>
                </a:lnTo>
                <a:lnTo>
                  <a:pt x="9252" y="1891"/>
                </a:lnTo>
                <a:lnTo>
                  <a:pt x="9159" y="1763"/>
                </a:lnTo>
                <a:lnTo>
                  <a:pt x="9018" y="1631"/>
                </a:lnTo>
                <a:lnTo>
                  <a:pt x="8829" y="1464"/>
                </a:lnTo>
                <a:lnTo>
                  <a:pt x="8551" y="1287"/>
                </a:lnTo>
                <a:lnTo>
                  <a:pt x="8410" y="1199"/>
                </a:lnTo>
                <a:lnTo>
                  <a:pt x="8225" y="1159"/>
                </a:lnTo>
                <a:lnTo>
                  <a:pt x="8088" y="1120"/>
                </a:lnTo>
                <a:lnTo>
                  <a:pt x="7942" y="1071"/>
                </a:lnTo>
                <a:lnTo>
                  <a:pt x="7665" y="1071"/>
                </a:lnTo>
                <a:lnTo>
                  <a:pt x="7431" y="1031"/>
                </a:lnTo>
                <a:lnTo>
                  <a:pt x="7197" y="987"/>
                </a:lnTo>
                <a:lnTo>
                  <a:pt x="6963" y="987"/>
                </a:lnTo>
                <a:lnTo>
                  <a:pt x="6730" y="948"/>
                </a:lnTo>
                <a:lnTo>
                  <a:pt x="6540" y="948"/>
                </a:lnTo>
                <a:lnTo>
                  <a:pt x="6403" y="899"/>
                </a:lnTo>
                <a:lnTo>
                  <a:pt x="6214" y="899"/>
                </a:lnTo>
                <a:lnTo>
                  <a:pt x="6029" y="899"/>
                </a:lnTo>
                <a:lnTo>
                  <a:pt x="5883" y="859"/>
                </a:lnTo>
                <a:lnTo>
                  <a:pt x="5654" y="820"/>
                </a:lnTo>
                <a:lnTo>
                  <a:pt x="5469" y="771"/>
                </a:lnTo>
                <a:lnTo>
                  <a:pt x="5332" y="643"/>
                </a:lnTo>
                <a:lnTo>
                  <a:pt x="5235" y="515"/>
                </a:lnTo>
                <a:lnTo>
                  <a:pt x="5142" y="388"/>
                </a:lnTo>
                <a:lnTo>
                  <a:pt x="4953" y="476"/>
                </a:lnTo>
                <a:lnTo>
                  <a:pt x="5252" y="476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13360" y="2346480"/>
            <a:ext cx="96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276720"/>
            <a:ext cx="990720" cy="1828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943600" y="3505320"/>
            <a:ext cx="335592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TMyObjec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is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at:Integer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WalkUp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WalkDown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ipulating a Pascal Object From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Code has a Pointer to a Pasc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92720" y="2286000"/>
            <a:ext cx="4675680" cy="4038840"/>
          </a:xfrm>
          <a:custGeom>
            <a:avLst/>
            <a:gdLst/>
            <a:ahLst/>
            <a:rect l="0" t="0" r="r" b="b"/>
            <a:pathLst>
              <a:path w="12988" h="11219">
                <a:moveTo>
                  <a:pt x="5252" y="476"/>
                </a:moveTo>
                <a:lnTo>
                  <a:pt x="4909" y="299"/>
                </a:lnTo>
                <a:lnTo>
                  <a:pt x="4251" y="171"/>
                </a:lnTo>
                <a:lnTo>
                  <a:pt x="3594" y="88"/>
                </a:lnTo>
                <a:lnTo>
                  <a:pt x="2848" y="0"/>
                </a:lnTo>
                <a:lnTo>
                  <a:pt x="2099" y="0"/>
                </a:lnTo>
                <a:lnTo>
                  <a:pt x="1450" y="0"/>
                </a:lnTo>
                <a:lnTo>
                  <a:pt x="1168" y="0"/>
                </a:lnTo>
                <a:lnTo>
                  <a:pt x="934" y="39"/>
                </a:lnTo>
                <a:lnTo>
                  <a:pt x="793" y="127"/>
                </a:lnTo>
                <a:lnTo>
                  <a:pt x="701" y="299"/>
                </a:lnTo>
                <a:lnTo>
                  <a:pt x="701" y="515"/>
                </a:lnTo>
                <a:lnTo>
                  <a:pt x="701" y="732"/>
                </a:lnTo>
                <a:lnTo>
                  <a:pt x="701" y="899"/>
                </a:lnTo>
                <a:lnTo>
                  <a:pt x="749" y="1120"/>
                </a:lnTo>
                <a:lnTo>
                  <a:pt x="749" y="1247"/>
                </a:lnTo>
                <a:lnTo>
                  <a:pt x="749" y="1375"/>
                </a:lnTo>
                <a:lnTo>
                  <a:pt x="749" y="1503"/>
                </a:lnTo>
                <a:lnTo>
                  <a:pt x="749" y="1631"/>
                </a:lnTo>
                <a:lnTo>
                  <a:pt x="701" y="1763"/>
                </a:lnTo>
                <a:lnTo>
                  <a:pt x="604" y="1979"/>
                </a:lnTo>
                <a:lnTo>
                  <a:pt x="515" y="2147"/>
                </a:lnTo>
                <a:lnTo>
                  <a:pt x="423" y="2363"/>
                </a:lnTo>
                <a:lnTo>
                  <a:pt x="326" y="2535"/>
                </a:lnTo>
                <a:lnTo>
                  <a:pt x="233" y="2791"/>
                </a:lnTo>
                <a:lnTo>
                  <a:pt x="136" y="2967"/>
                </a:lnTo>
                <a:lnTo>
                  <a:pt x="48" y="3179"/>
                </a:lnTo>
                <a:lnTo>
                  <a:pt x="48" y="3355"/>
                </a:lnTo>
                <a:lnTo>
                  <a:pt x="0" y="3523"/>
                </a:lnTo>
                <a:lnTo>
                  <a:pt x="0" y="3695"/>
                </a:lnTo>
                <a:lnTo>
                  <a:pt x="0" y="3871"/>
                </a:lnTo>
                <a:lnTo>
                  <a:pt x="0" y="4039"/>
                </a:lnTo>
                <a:lnTo>
                  <a:pt x="0" y="4211"/>
                </a:lnTo>
                <a:lnTo>
                  <a:pt x="0" y="4339"/>
                </a:lnTo>
                <a:lnTo>
                  <a:pt x="0" y="4467"/>
                </a:lnTo>
                <a:lnTo>
                  <a:pt x="0" y="4603"/>
                </a:lnTo>
                <a:lnTo>
                  <a:pt x="0" y="4731"/>
                </a:lnTo>
                <a:lnTo>
                  <a:pt x="48" y="4899"/>
                </a:lnTo>
                <a:lnTo>
                  <a:pt x="92" y="5110"/>
                </a:lnTo>
                <a:lnTo>
                  <a:pt x="136" y="5287"/>
                </a:lnTo>
                <a:lnTo>
                  <a:pt x="189" y="5459"/>
                </a:lnTo>
                <a:lnTo>
                  <a:pt x="233" y="5632"/>
                </a:lnTo>
                <a:lnTo>
                  <a:pt x="282" y="5804"/>
                </a:lnTo>
                <a:lnTo>
                  <a:pt x="282" y="5980"/>
                </a:lnTo>
                <a:lnTo>
                  <a:pt x="282" y="6192"/>
                </a:lnTo>
                <a:lnTo>
                  <a:pt x="233" y="6320"/>
                </a:lnTo>
                <a:lnTo>
                  <a:pt x="189" y="6487"/>
                </a:lnTo>
                <a:lnTo>
                  <a:pt x="189" y="6664"/>
                </a:lnTo>
                <a:lnTo>
                  <a:pt x="92" y="6880"/>
                </a:lnTo>
                <a:lnTo>
                  <a:pt x="48" y="7052"/>
                </a:lnTo>
                <a:lnTo>
                  <a:pt x="0" y="7268"/>
                </a:lnTo>
                <a:lnTo>
                  <a:pt x="0" y="7479"/>
                </a:lnTo>
                <a:lnTo>
                  <a:pt x="0" y="7735"/>
                </a:lnTo>
                <a:lnTo>
                  <a:pt x="0" y="8000"/>
                </a:lnTo>
                <a:lnTo>
                  <a:pt x="0" y="8251"/>
                </a:lnTo>
                <a:lnTo>
                  <a:pt x="92" y="8427"/>
                </a:lnTo>
                <a:lnTo>
                  <a:pt x="189" y="8644"/>
                </a:lnTo>
                <a:lnTo>
                  <a:pt x="326" y="8771"/>
                </a:lnTo>
                <a:lnTo>
                  <a:pt x="467" y="8983"/>
                </a:lnTo>
                <a:lnTo>
                  <a:pt x="701" y="9159"/>
                </a:lnTo>
                <a:lnTo>
                  <a:pt x="934" y="9327"/>
                </a:lnTo>
                <a:lnTo>
                  <a:pt x="1168" y="9459"/>
                </a:lnTo>
                <a:lnTo>
                  <a:pt x="1358" y="9587"/>
                </a:lnTo>
                <a:lnTo>
                  <a:pt x="1494" y="9675"/>
                </a:lnTo>
                <a:lnTo>
                  <a:pt x="1684" y="9803"/>
                </a:lnTo>
                <a:lnTo>
                  <a:pt x="1918" y="9931"/>
                </a:lnTo>
                <a:lnTo>
                  <a:pt x="2575" y="10019"/>
                </a:lnTo>
                <a:lnTo>
                  <a:pt x="3223" y="10147"/>
                </a:lnTo>
                <a:lnTo>
                  <a:pt x="3881" y="10231"/>
                </a:lnTo>
                <a:lnTo>
                  <a:pt x="4622" y="10359"/>
                </a:lnTo>
                <a:lnTo>
                  <a:pt x="5279" y="10535"/>
                </a:lnTo>
                <a:lnTo>
                  <a:pt x="5936" y="10663"/>
                </a:lnTo>
                <a:lnTo>
                  <a:pt x="6593" y="10791"/>
                </a:lnTo>
                <a:lnTo>
                  <a:pt x="6827" y="10919"/>
                </a:lnTo>
                <a:lnTo>
                  <a:pt x="7060" y="11003"/>
                </a:lnTo>
                <a:lnTo>
                  <a:pt x="7241" y="11051"/>
                </a:lnTo>
                <a:lnTo>
                  <a:pt x="7475" y="11131"/>
                </a:lnTo>
                <a:lnTo>
                  <a:pt x="7757" y="11179"/>
                </a:lnTo>
                <a:lnTo>
                  <a:pt x="8035" y="11219"/>
                </a:lnTo>
                <a:lnTo>
                  <a:pt x="8322" y="11219"/>
                </a:lnTo>
                <a:lnTo>
                  <a:pt x="8551" y="11219"/>
                </a:lnTo>
                <a:lnTo>
                  <a:pt x="8736" y="11091"/>
                </a:lnTo>
                <a:lnTo>
                  <a:pt x="8926" y="10963"/>
                </a:lnTo>
                <a:lnTo>
                  <a:pt x="9159" y="10875"/>
                </a:lnTo>
                <a:lnTo>
                  <a:pt x="9393" y="10747"/>
                </a:lnTo>
                <a:lnTo>
                  <a:pt x="9583" y="10619"/>
                </a:lnTo>
                <a:lnTo>
                  <a:pt x="9671" y="10407"/>
                </a:lnTo>
                <a:lnTo>
                  <a:pt x="9671" y="10147"/>
                </a:lnTo>
                <a:lnTo>
                  <a:pt x="9671" y="9459"/>
                </a:lnTo>
                <a:lnTo>
                  <a:pt x="9583" y="8855"/>
                </a:lnTo>
                <a:lnTo>
                  <a:pt x="9486" y="8644"/>
                </a:lnTo>
                <a:lnTo>
                  <a:pt x="9437" y="8516"/>
                </a:lnTo>
                <a:lnTo>
                  <a:pt x="9349" y="8339"/>
                </a:lnTo>
                <a:lnTo>
                  <a:pt x="9252" y="8167"/>
                </a:lnTo>
                <a:lnTo>
                  <a:pt x="9204" y="7951"/>
                </a:lnTo>
                <a:lnTo>
                  <a:pt x="9159" y="7823"/>
                </a:lnTo>
                <a:lnTo>
                  <a:pt x="9159" y="7651"/>
                </a:lnTo>
                <a:lnTo>
                  <a:pt x="9159" y="7523"/>
                </a:lnTo>
                <a:lnTo>
                  <a:pt x="9252" y="7396"/>
                </a:lnTo>
                <a:lnTo>
                  <a:pt x="9393" y="7268"/>
                </a:lnTo>
                <a:lnTo>
                  <a:pt x="9583" y="7180"/>
                </a:lnTo>
                <a:lnTo>
                  <a:pt x="9818" y="7052"/>
                </a:lnTo>
                <a:lnTo>
                  <a:pt x="10466" y="6963"/>
                </a:lnTo>
                <a:lnTo>
                  <a:pt x="11123" y="6880"/>
                </a:lnTo>
                <a:lnTo>
                  <a:pt x="11775" y="6791"/>
                </a:lnTo>
                <a:lnTo>
                  <a:pt x="12009" y="6752"/>
                </a:lnTo>
                <a:lnTo>
                  <a:pt x="12243" y="6664"/>
                </a:lnTo>
                <a:lnTo>
                  <a:pt x="12428" y="6575"/>
                </a:lnTo>
                <a:lnTo>
                  <a:pt x="12618" y="6448"/>
                </a:lnTo>
                <a:lnTo>
                  <a:pt x="12710" y="6320"/>
                </a:lnTo>
                <a:lnTo>
                  <a:pt x="12807" y="6148"/>
                </a:lnTo>
                <a:lnTo>
                  <a:pt x="12900" y="6020"/>
                </a:lnTo>
                <a:lnTo>
                  <a:pt x="12944" y="5804"/>
                </a:lnTo>
                <a:lnTo>
                  <a:pt x="12944" y="5632"/>
                </a:lnTo>
                <a:lnTo>
                  <a:pt x="12988" y="5415"/>
                </a:lnTo>
                <a:lnTo>
                  <a:pt x="12988" y="5159"/>
                </a:lnTo>
                <a:lnTo>
                  <a:pt x="12944" y="4899"/>
                </a:lnTo>
                <a:lnTo>
                  <a:pt x="12900" y="4643"/>
                </a:lnTo>
                <a:lnTo>
                  <a:pt x="12807" y="4427"/>
                </a:lnTo>
                <a:lnTo>
                  <a:pt x="12710" y="4211"/>
                </a:lnTo>
                <a:lnTo>
                  <a:pt x="12574" y="3999"/>
                </a:lnTo>
                <a:lnTo>
                  <a:pt x="12477" y="3823"/>
                </a:lnTo>
                <a:lnTo>
                  <a:pt x="12340" y="3611"/>
                </a:lnTo>
                <a:lnTo>
                  <a:pt x="12194" y="3483"/>
                </a:lnTo>
                <a:lnTo>
                  <a:pt x="12053" y="3307"/>
                </a:lnTo>
                <a:lnTo>
                  <a:pt x="11961" y="3139"/>
                </a:lnTo>
                <a:lnTo>
                  <a:pt x="11775" y="3007"/>
                </a:lnTo>
                <a:lnTo>
                  <a:pt x="11639" y="2839"/>
                </a:lnTo>
                <a:lnTo>
                  <a:pt x="11493" y="2711"/>
                </a:lnTo>
                <a:lnTo>
                  <a:pt x="11357" y="2575"/>
                </a:lnTo>
                <a:lnTo>
                  <a:pt x="11215" y="2535"/>
                </a:lnTo>
                <a:lnTo>
                  <a:pt x="11079" y="2495"/>
                </a:lnTo>
                <a:lnTo>
                  <a:pt x="10933" y="2495"/>
                </a:lnTo>
                <a:lnTo>
                  <a:pt x="10792" y="2495"/>
                </a:lnTo>
                <a:lnTo>
                  <a:pt x="10655" y="2535"/>
                </a:lnTo>
                <a:lnTo>
                  <a:pt x="10466" y="2663"/>
                </a:lnTo>
                <a:lnTo>
                  <a:pt x="10325" y="2751"/>
                </a:lnTo>
                <a:lnTo>
                  <a:pt x="10188" y="2791"/>
                </a:lnTo>
                <a:lnTo>
                  <a:pt x="10047" y="2751"/>
                </a:lnTo>
                <a:lnTo>
                  <a:pt x="9906" y="2623"/>
                </a:lnTo>
                <a:lnTo>
                  <a:pt x="9765" y="2447"/>
                </a:lnTo>
                <a:lnTo>
                  <a:pt x="9583" y="2279"/>
                </a:lnTo>
                <a:lnTo>
                  <a:pt x="9393" y="2059"/>
                </a:lnTo>
                <a:lnTo>
                  <a:pt x="9252" y="1891"/>
                </a:lnTo>
                <a:lnTo>
                  <a:pt x="9159" y="1763"/>
                </a:lnTo>
                <a:lnTo>
                  <a:pt x="9018" y="1631"/>
                </a:lnTo>
                <a:lnTo>
                  <a:pt x="8829" y="1464"/>
                </a:lnTo>
                <a:lnTo>
                  <a:pt x="8551" y="1287"/>
                </a:lnTo>
                <a:lnTo>
                  <a:pt x="8410" y="1199"/>
                </a:lnTo>
                <a:lnTo>
                  <a:pt x="8225" y="1159"/>
                </a:lnTo>
                <a:lnTo>
                  <a:pt x="8088" y="1120"/>
                </a:lnTo>
                <a:lnTo>
                  <a:pt x="7942" y="1071"/>
                </a:lnTo>
                <a:lnTo>
                  <a:pt x="7665" y="1071"/>
                </a:lnTo>
                <a:lnTo>
                  <a:pt x="7431" y="1031"/>
                </a:lnTo>
                <a:lnTo>
                  <a:pt x="7197" y="987"/>
                </a:lnTo>
                <a:lnTo>
                  <a:pt x="6963" y="987"/>
                </a:lnTo>
                <a:lnTo>
                  <a:pt x="6730" y="948"/>
                </a:lnTo>
                <a:lnTo>
                  <a:pt x="6540" y="948"/>
                </a:lnTo>
                <a:lnTo>
                  <a:pt x="6403" y="899"/>
                </a:lnTo>
                <a:lnTo>
                  <a:pt x="6214" y="899"/>
                </a:lnTo>
                <a:lnTo>
                  <a:pt x="6029" y="899"/>
                </a:lnTo>
                <a:lnTo>
                  <a:pt x="5883" y="859"/>
                </a:lnTo>
                <a:lnTo>
                  <a:pt x="5654" y="820"/>
                </a:lnTo>
                <a:lnTo>
                  <a:pt x="5469" y="771"/>
                </a:lnTo>
                <a:lnTo>
                  <a:pt x="5332" y="643"/>
                </a:lnTo>
                <a:lnTo>
                  <a:pt x="5235" y="515"/>
                </a:lnTo>
                <a:lnTo>
                  <a:pt x="5142" y="388"/>
                </a:lnTo>
                <a:lnTo>
                  <a:pt x="4953" y="476"/>
                </a:lnTo>
                <a:lnTo>
                  <a:pt x="5252" y="476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400" y="2712960"/>
            <a:ext cx="3621600" cy="3410280"/>
          </a:xfrm>
          <a:custGeom>
            <a:avLst/>
            <a:gdLst/>
            <a:ahLst/>
            <a:rect l="0" t="0" r="r" b="b"/>
            <a:pathLst>
              <a:path w="10060" h="9473">
                <a:moveTo>
                  <a:pt x="5843" y="83"/>
                </a:moveTo>
                <a:lnTo>
                  <a:pt x="5716" y="30"/>
                </a:lnTo>
                <a:lnTo>
                  <a:pt x="5588" y="0"/>
                </a:lnTo>
                <a:lnTo>
                  <a:pt x="5358" y="0"/>
                </a:lnTo>
                <a:lnTo>
                  <a:pt x="5195" y="0"/>
                </a:lnTo>
                <a:lnTo>
                  <a:pt x="4737" y="0"/>
                </a:lnTo>
                <a:lnTo>
                  <a:pt x="4278" y="0"/>
                </a:lnTo>
                <a:lnTo>
                  <a:pt x="4084" y="0"/>
                </a:lnTo>
                <a:lnTo>
                  <a:pt x="3885" y="0"/>
                </a:lnTo>
                <a:lnTo>
                  <a:pt x="3691" y="0"/>
                </a:lnTo>
                <a:lnTo>
                  <a:pt x="3559" y="0"/>
                </a:lnTo>
                <a:lnTo>
                  <a:pt x="3396" y="0"/>
                </a:lnTo>
                <a:lnTo>
                  <a:pt x="3268" y="0"/>
                </a:lnTo>
                <a:lnTo>
                  <a:pt x="3167" y="0"/>
                </a:lnTo>
                <a:lnTo>
                  <a:pt x="3039" y="0"/>
                </a:lnTo>
                <a:lnTo>
                  <a:pt x="2942" y="0"/>
                </a:lnTo>
                <a:lnTo>
                  <a:pt x="2840" y="0"/>
                </a:lnTo>
                <a:lnTo>
                  <a:pt x="2743" y="30"/>
                </a:lnTo>
                <a:lnTo>
                  <a:pt x="2646" y="30"/>
                </a:lnTo>
                <a:lnTo>
                  <a:pt x="2549" y="66"/>
                </a:lnTo>
                <a:lnTo>
                  <a:pt x="2385" y="127"/>
                </a:lnTo>
                <a:lnTo>
                  <a:pt x="2284" y="163"/>
                </a:lnTo>
                <a:lnTo>
                  <a:pt x="2156" y="260"/>
                </a:lnTo>
                <a:lnTo>
                  <a:pt x="2059" y="326"/>
                </a:lnTo>
                <a:lnTo>
                  <a:pt x="1957" y="423"/>
                </a:lnTo>
                <a:lnTo>
                  <a:pt x="1860" y="520"/>
                </a:lnTo>
                <a:lnTo>
                  <a:pt x="1733" y="586"/>
                </a:lnTo>
                <a:lnTo>
                  <a:pt x="1631" y="683"/>
                </a:lnTo>
                <a:lnTo>
                  <a:pt x="1534" y="718"/>
                </a:lnTo>
                <a:lnTo>
                  <a:pt x="1402" y="815"/>
                </a:lnTo>
                <a:lnTo>
                  <a:pt x="1305" y="881"/>
                </a:lnTo>
                <a:lnTo>
                  <a:pt x="1208" y="912"/>
                </a:lnTo>
                <a:lnTo>
                  <a:pt x="1075" y="1009"/>
                </a:lnTo>
                <a:lnTo>
                  <a:pt x="978" y="1075"/>
                </a:lnTo>
                <a:lnTo>
                  <a:pt x="881" y="1208"/>
                </a:lnTo>
                <a:lnTo>
                  <a:pt x="851" y="1305"/>
                </a:lnTo>
                <a:lnTo>
                  <a:pt x="815" y="1468"/>
                </a:lnTo>
                <a:lnTo>
                  <a:pt x="815" y="1565"/>
                </a:lnTo>
                <a:lnTo>
                  <a:pt x="784" y="1666"/>
                </a:lnTo>
                <a:lnTo>
                  <a:pt x="784" y="1763"/>
                </a:lnTo>
                <a:lnTo>
                  <a:pt x="784" y="1891"/>
                </a:lnTo>
                <a:lnTo>
                  <a:pt x="815" y="2024"/>
                </a:lnTo>
                <a:lnTo>
                  <a:pt x="815" y="2121"/>
                </a:lnTo>
                <a:lnTo>
                  <a:pt x="851" y="2284"/>
                </a:lnTo>
                <a:lnTo>
                  <a:pt x="881" y="2447"/>
                </a:lnTo>
                <a:lnTo>
                  <a:pt x="881" y="2548"/>
                </a:lnTo>
                <a:lnTo>
                  <a:pt x="881" y="2711"/>
                </a:lnTo>
                <a:lnTo>
                  <a:pt x="851" y="2839"/>
                </a:lnTo>
                <a:lnTo>
                  <a:pt x="718" y="3003"/>
                </a:lnTo>
                <a:lnTo>
                  <a:pt x="652" y="3100"/>
                </a:lnTo>
                <a:lnTo>
                  <a:pt x="555" y="3201"/>
                </a:lnTo>
                <a:lnTo>
                  <a:pt x="423" y="3329"/>
                </a:lnTo>
                <a:lnTo>
                  <a:pt x="326" y="3430"/>
                </a:lnTo>
                <a:lnTo>
                  <a:pt x="260" y="3527"/>
                </a:lnTo>
                <a:lnTo>
                  <a:pt x="194" y="3624"/>
                </a:lnTo>
                <a:lnTo>
                  <a:pt x="132" y="3757"/>
                </a:lnTo>
                <a:lnTo>
                  <a:pt x="66" y="3951"/>
                </a:lnTo>
                <a:lnTo>
                  <a:pt x="66" y="4083"/>
                </a:lnTo>
                <a:lnTo>
                  <a:pt x="30" y="4211"/>
                </a:lnTo>
                <a:lnTo>
                  <a:pt x="0" y="4409"/>
                </a:lnTo>
                <a:lnTo>
                  <a:pt x="0" y="4864"/>
                </a:lnTo>
                <a:lnTo>
                  <a:pt x="0" y="5323"/>
                </a:lnTo>
                <a:lnTo>
                  <a:pt x="0" y="5782"/>
                </a:lnTo>
                <a:lnTo>
                  <a:pt x="30" y="6240"/>
                </a:lnTo>
                <a:lnTo>
                  <a:pt x="66" y="6434"/>
                </a:lnTo>
                <a:lnTo>
                  <a:pt x="97" y="6597"/>
                </a:lnTo>
                <a:lnTo>
                  <a:pt x="163" y="6761"/>
                </a:lnTo>
                <a:lnTo>
                  <a:pt x="194" y="6893"/>
                </a:lnTo>
                <a:lnTo>
                  <a:pt x="229" y="7021"/>
                </a:lnTo>
                <a:lnTo>
                  <a:pt x="260" y="7122"/>
                </a:lnTo>
                <a:lnTo>
                  <a:pt x="260" y="7250"/>
                </a:lnTo>
                <a:lnTo>
                  <a:pt x="260" y="7347"/>
                </a:lnTo>
                <a:lnTo>
                  <a:pt x="260" y="7449"/>
                </a:lnTo>
                <a:lnTo>
                  <a:pt x="260" y="7546"/>
                </a:lnTo>
                <a:lnTo>
                  <a:pt x="260" y="7673"/>
                </a:lnTo>
                <a:lnTo>
                  <a:pt x="295" y="7806"/>
                </a:lnTo>
                <a:lnTo>
                  <a:pt x="326" y="7903"/>
                </a:lnTo>
                <a:lnTo>
                  <a:pt x="357" y="8004"/>
                </a:lnTo>
                <a:lnTo>
                  <a:pt x="458" y="8066"/>
                </a:lnTo>
                <a:lnTo>
                  <a:pt x="555" y="8132"/>
                </a:lnTo>
                <a:lnTo>
                  <a:pt x="687" y="8198"/>
                </a:lnTo>
                <a:lnTo>
                  <a:pt x="881" y="8295"/>
                </a:lnTo>
                <a:lnTo>
                  <a:pt x="1075" y="8361"/>
                </a:lnTo>
                <a:lnTo>
                  <a:pt x="1274" y="8392"/>
                </a:lnTo>
                <a:lnTo>
                  <a:pt x="1468" y="8458"/>
                </a:lnTo>
                <a:lnTo>
                  <a:pt x="1666" y="8494"/>
                </a:lnTo>
                <a:lnTo>
                  <a:pt x="1830" y="8524"/>
                </a:lnTo>
                <a:lnTo>
                  <a:pt x="1957" y="8524"/>
                </a:lnTo>
                <a:lnTo>
                  <a:pt x="2121" y="8494"/>
                </a:lnTo>
                <a:lnTo>
                  <a:pt x="2253" y="8392"/>
                </a:lnTo>
                <a:lnTo>
                  <a:pt x="2319" y="8295"/>
                </a:lnTo>
                <a:lnTo>
                  <a:pt x="2416" y="8229"/>
                </a:lnTo>
                <a:lnTo>
                  <a:pt x="2513" y="8167"/>
                </a:lnTo>
                <a:lnTo>
                  <a:pt x="2646" y="8132"/>
                </a:lnTo>
                <a:lnTo>
                  <a:pt x="2743" y="8066"/>
                </a:lnTo>
                <a:lnTo>
                  <a:pt x="2876" y="8035"/>
                </a:lnTo>
                <a:lnTo>
                  <a:pt x="3039" y="8035"/>
                </a:lnTo>
                <a:lnTo>
                  <a:pt x="3202" y="8004"/>
                </a:lnTo>
                <a:lnTo>
                  <a:pt x="3365" y="8004"/>
                </a:lnTo>
                <a:lnTo>
                  <a:pt x="3528" y="8004"/>
                </a:lnTo>
                <a:lnTo>
                  <a:pt x="3661" y="8035"/>
                </a:lnTo>
                <a:lnTo>
                  <a:pt x="3758" y="8167"/>
                </a:lnTo>
                <a:lnTo>
                  <a:pt x="3855" y="8295"/>
                </a:lnTo>
                <a:lnTo>
                  <a:pt x="3952" y="8427"/>
                </a:lnTo>
                <a:lnTo>
                  <a:pt x="4049" y="8524"/>
                </a:lnTo>
                <a:lnTo>
                  <a:pt x="4150" y="8622"/>
                </a:lnTo>
                <a:lnTo>
                  <a:pt x="4216" y="8723"/>
                </a:lnTo>
                <a:lnTo>
                  <a:pt x="4313" y="8851"/>
                </a:lnTo>
                <a:lnTo>
                  <a:pt x="4441" y="8948"/>
                </a:lnTo>
                <a:lnTo>
                  <a:pt x="4543" y="9049"/>
                </a:lnTo>
                <a:lnTo>
                  <a:pt x="4640" y="9146"/>
                </a:lnTo>
                <a:lnTo>
                  <a:pt x="4737" y="9212"/>
                </a:lnTo>
                <a:lnTo>
                  <a:pt x="4869" y="9274"/>
                </a:lnTo>
                <a:lnTo>
                  <a:pt x="4997" y="9340"/>
                </a:lnTo>
                <a:lnTo>
                  <a:pt x="5129" y="9406"/>
                </a:lnTo>
                <a:lnTo>
                  <a:pt x="5261" y="9406"/>
                </a:lnTo>
                <a:lnTo>
                  <a:pt x="5424" y="9437"/>
                </a:lnTo>
                <a:lnTo>
                  <a:pt x="5552" y="9473"/>
                </a:lnTo>
                <a:lnTo>
                  <a:pt x="5716" y="9473"/>
                </a:lnTo>
                <a:lnTo>
                  <a:pt x="5813" y="9473"/>
                </a:lnTo>
                <a:lnTo>
                  <a:pt x="5914" y="9437"/>
                </a:lnTo>
                <a:lnTo>
                  <a:pt x="6011" y="9406"/>
                </a:lnTo>
                <a:lnTo>
                  <a:pt x="6143" y="9309"/>
                </a:lnTo>
                <a:lnTo>
                  <a:pt x="6240" y="9212"/>
                </a:lnTo>
                <a:lnTo>
                  <a:pt x="6271" y="9111"/>
                </a:lnTo>
                <a:lnTo>
                  <a:pt x="6403" y="8983"/>
                </a:lnTo>
                <a:lnTo>
                  <a:pt x="6531" y="8917"/>
                </a:lnTo>
                <a:lnTo>
                  <a:pt x="6664" y="8820"/>
                </a:lnTo>
                <a:lnTo>
                  <a:pt x="6796" y="8723"/>
                </a:lnTo>
                <a:lnTo>
                  <a:pt x="6959" y="8657"/>
                </a:lnTo>
                <a:lnTo>
                  <a:pt x="7413" y="8591"/>
                </a:lnTo>
                <a:lnTo>
                  <a:pt x="7873" y="8555"/>
                </a:lnTo>
                <a:lnTo>
                  <a:pt x="8331" y="8555"/>
                </a:lnTo>
                <a:lnTo>
                  <a:pt x="8525" y="8555"/>
                </a:lnTo>
                <a:lnTo>
                  <a:pt x="8658" y="8555"/>
                </a:lnTo>
                <a:lnTo>
                  <a:pt x="8790" y="8591"/>
                </a:lnTo>
                <a:lnTo>
                  <a:pt x="8887" y="8622"/>
                </a:lnTo>
                <a:lnTo>
                  <a:pt x="9015" y="8688"/>
                </a:lnTo>
                <a:lnTo>
                  <a:pt x="9178" y="8723"/>
                </a:lnTo>
                <a:lnTo>
                  <a:pt x="9280" y="8723"/>
                </a:lnTo>
                <a:lnTo>
                  <a:pt x="9377" y="8723"/>
                </a:lnTo>
                <a:lnTo>
                  <a:pt x="9474" y="8688"/>
                </a:lnTo>
                <a:lnTo>
                  <a:pt x="9571" y="8622"/>
                </a:lnTo>
                <a:lnTo>
                  <a:pt x="9637" y="8524"/>
                </a:lnTo>
                <a:lnTo>
                  <a:pt x="9734" y="8392"/>
                </a:lnTo>
                <a:lnTo>
                  <a:pt x="9800" y="8264"/>
                </a:lnTo>
                <a:lnTo>
                  <a:pt x="9866" y="8132"/>
                </a:lnTo>
                <a:lnTo>
                  <a:pt x="9897" y="8035"/>
                </a:lnTo>
                <a:lnTo>
                  <a:pt x="9963" y="7938"/>
                </a:lnTo>
                <a:lnTo>
                  <a:pt x="10029" y="7841"/>
                </a:lnTo>
                <a:lnTo>
                  <a:pt x="10060" y="7709"/>
                </a:lnTo>
                <a:lnTo>
                  <a:pt x="10060" y="7612"/>
                </a:lnTo>
                <a:lnTo>
                  <a:pt x="10060" y="7510"/>
                </a:lnTo>
                <a:lnTo>
                  <a:pt x="10060" y="7413"/>
                </a:lnTo>
                <a:lnTo>
                  <a:pt x="10060" y="7250"/>
                </a:lnTo>
                <a:lnTo>
                  <a:pt x="10060" y="7122"/>
                </a:lnTo>
                <a:lnTo>
                  <a:pt x="10029" y="7021"/>
                </a:lnTo>
                <a:lnTo>
                  <a:pt x="9998" y="6924"/>
                </a:lnTo>
                <a:lnTo>
                  <a:pt x="9963" y="6827"/>
                </a:lnTo>
                <a:lnTo>
                  <a:pt x="9932" y="6730"/>
                </a:lnTo>
                <a:lnTo>
                  <a:pt x="9897" y="6597"/>
                </a:lnTo>
                <a:lnTo>
                  <a:pt x="9835" y="6465"/>
                </a:lnTo>
                <a:lnTo>
                  <a:pt x="9800" y="6337"/>
                </a:lnTo>
                <a:lnTo>
                  <a:pt x="9769" y="6240"/>
                </a:lnTo>
                <a:lnTo>
                  <a:pt x="9769" y="6139"/>
                </a:lnTo>
                <a:lnTo>
                  <a:pt x="9734" y="6011"/>
                </a:lnTo>
                <a:lnTo>
                  <a:pt x="9734" y="5910"/>
                </a:lnTo>
                <a:lnTo>
                  <a:pt x="9734" y="5813"/>
                </a:lnTo>
                <a:lnTo>
                  <a:pt x="9734" y="5685"/>
                </a:lnTo>
                <a:lnTo>
                  <a:pt x="9769" y="5583"/>
                </a:lnTo>
                <a:lnTo>
                  <a:pt x="9835" y="5455"/>
                </a:lnTo>
                <a:lnTo>
                  <a:pt x="9897" y="5292"/>
                </a:lnTo>
                <a:lnTo>
                  <a:pt x="9932" y="5160"/>
                </a:lnTo>
                <a:lnTo>
                  <a:pt x="9998" y="4966"/>
                </a:lnTo>
                <a:lnTo>
                  <a:pt x="9998" y="4803"/>
                </a:lnTo>
                <a:lnTo>
                  <a:pt x="9998" y="4603"/>
                </a:lnTo>
                <a:lnTo>
                  <a:pt x="9998" y="4409"/>
                </a:lnTo>
                <a:lnTo>
                  <a:pt x="9963" y="4211"/>
                </a:lnTo>
                <a:lnTo>
                  <a:pt x="9932" y="4048"/>
                </a:lnTo>
                <a:lnTo>
                  <a:pt x="9897" y="3920"/>
                </a:lnTo>
                <a:lnTo>
                  <a:pt x="9835" y="3757"/>
                </a:lnTo>
                <a:lnTo>
                  <a:pt x="9800" y="3655"/>
                </a:lnTo>
                <a:lnTo>
                  <a:pt x="9734" y="3527"/>
                </a:lnTo>
                <a:lnTo>
                  <a:pt x="9672" y="3430"/>
                </a:lnTo>
                <a:lnTo>
                  <a:pt x="9606" y="3298"/>
                </a:lnTo>
                <a:lnTo>
                  <a:pt x="9474" y="3201"/>
                </a:lnTo>
                <a:lnTo>
                  <a:pt x="9341" y="3069"/>
                </a:lnTo>
                <a:lnTo>
                  <a:pt x="9213" y="2936"/>
                </a:lnTo>
                <a:lnTo>
                  <a:pt x="9116" y="2808"/>
                </a:lnTo>
                <a:lnTo>
                  <a:pt x="8984" y="2676"/>
                </a:lnTo>
                <a:lnTo>
                  <a:pt x="8852" y="2579"/>
                </a:lnTo>
                <a:lnTo>
                  <a:pt x="8755" y="2447"/>
                </a:lnTo>
                <a:lnTo>
                  <a:pt x="8658" y="2350"/>
                </a:lnTo>
                <a:lnTo>
                  <a:pt x="8561" y="2218"/>
                </a:lnTo>
                <a:lnTo>
                  <a:pt x="8459" y="2121"/>
                </a:lnTo>
                <a:lnTo>
                  <a:pt x="8398" y="1993"/>
                </a:lnTo>
                <a:lnTo>
                  <a:pt x="8296" y="1891"/>
                </a:lnTo>
                <a:lnTo>
                  <a:pt x="8199" y="1794"/>
                </a:lnTo>
                <a:lnTo>
                  <a:pt x="8102" y="1666"/>
                </a:lnTo>
                <a:lnTo>
                  <a:pt x="8036" y="1534"/>
                </a:lnTo>
                <a:lnTo>
                  <a:pt x="7970" y="1371"/>
                </a:lnTo>
                <a:lnTo>
                  <a:pt x="7970" y="1274"/>
                </a:lnTo>
                <a:lnTo>
                  <a:pt x="7970" y="1142"/>
                </a:lnTo>
                <a:lnTo>
                  <a:pt x="7970" y="1045"/>
                </a:lnTo>
                <a:lnTo>
                  <a:pt x="7939" y="912"/>
                </a:lnTo>
                <a:lnTo>
                  <a:pt x="7939" y="784"/>
                </a:lnTo>
                <a:lnTo>
                  <a:pt x="7908" y="652"/>
                </a:lnTo>
                <a:lnTo>
                  <a:pt x="7873" y="489"/>
                </a:lnTo>
                <a:lnTo>
                  <a:pt x="7776" y="357"/>
                </a:lnTo>
                <a:lnTo>
                  <a:pt x="7679" y="291"/>
                </a:lnTo>
                <a:lnTo>
                  <a:pt x="7547" y="194"/>
                </a:lnTo>
                <a:lnTo>
                  <a:pt x="7413" y="163"/>
                </a:lnTo>
                <a:lnTo>
                  <a:pt x="7285" y="127"/>
                </a:lnTo>
                <a:lnTo>
                  <a:pt x="7153" y="127"/>
                </a:lnTo>
                <a:lnTo>
                  <a:pt x="7025" y="127"/>
                </a:lnTo>
                <a:lnTo>
                  <a:pt x="6924" y="127"/>
                </a:lnTo>
                <a:lnTo>
                  <a:pt x="6796" y="127"/>
                </a:lnTo>
                <a:lnTo>
                  <a:pt x="6664" y="163"/>
                </a:lnTo>
                <a:lnTo>
                  <a:pt x="6531" y="163"/>
                </a:lnTo>
                <a:lnTo>
                  <a:pt x="6434" y="163"/>
                </a:lnTo>
                <a:lnTo>
                  <a:pt x="6306" y="163"/>
                </a:lnTo>
                <a:lnTo>
                  <a:pt x="6174" y="163"/>
                </a:lnTo>
                <a:lnTo>
                  <a:pt x="6077" y="163"/>
                </a:lnTo>
                <a:lnTo>
                  <a:pt x="5980" y="163"/>
                </a:lnTo>
                <a:lnTo>
                  <a:pt x="5879" y="163"/>
                </a:lnTo>
                <a:lnTo>
                  <a:pt x="5843" y="83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98560" y="2498760"/>
            <a:ext cx="731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13360" y="2346480"/>
            <a:ext cx="96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429000"/>
            <a:ext cx="914400" cy="30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76720"/>
            <a:ext cx="990720" cy="1828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505320"/>
            <a:ext cx="24382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43600" y="3505320"/>
            <a:ext cx="335592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TMyObjec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is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at:Integer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WalkUp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WalkDown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 Forms in OWL &amp; MFC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ng a Common Interfac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scal, declare an interface class with the publ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 the interface to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mon calling conventions (stdc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 the object’s class from the interfac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 Code for an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1430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ascal: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IMyObject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is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bstrac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at: Integer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bstrac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++: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IMyObject {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__stdcall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is() = 0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__stdcall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at() = 0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1332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scal Class With an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1430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MyObject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is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; virtual; abstract;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at: Integer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; virtual; abstrac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MyObject = class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MyObjec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is;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override;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at: Integer;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override;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WalkUp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WalkDown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ipulating a Pascal Object From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280" y="165744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Code Calls a Method on the Pasc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39880" y="2209680"/>
            <a:ext cx="3380040" cy="3810240"/>
          </a:xfrm>
          <a:custGeom>
            <a:avLst/>
            <a:gdLst/>
            <a:ahLst/>
            <a:rect l="0" t="0" r="r" b="b"/>
            <a:pathLst>
              <a:path w="9389" h="10584">
                <a:moveTo>
                  <a:pt x="3796" y="449"/>
                </a:moveTo>
                <a:lnTo>
                  <a:pt x="3545" y="286"/>
                </a:lnTo>
                <a:lnTo>
                  <a:pt x="3073" y="163"/>
                </a:lnTo>
                <a:lnTo>
                  <a:pt x="2597" y="83"/>
                </a:lnTo>
                <a:lnTo>
                  <a:pt x="2059" y="0"/>
                </a:lnTo>
                <a:lnTo>
                  <a:pt x="1516" y="0"/>
                </a:lnTo>
                <a:lnTo>
                  <a:pt x="1049" y="0"/>
                </a:lnTo>
                <a:lnTo>
                  <a:pt x="842" y="0"/>
                </a:lnTo>
                <a:lnTo>
                  <a:pt x="674" y="39"/>
                </a:lnTo>
                <a:lnTo>
                  <a:pt x="573" y="119"/>
                </a:lnTo>
                <a:lnTo>
                  <a:pt x="507" y="286"/>
                </a:lnTo>
                <a:lnTo>
                  <a:pt x="507" y="489"/>
                </a:lnTo>
                <a:lnTo>
                  <a:pt x="507" y="687"/>
                </a:lnTo>
                <a:lnTo>
                  <a:pt x="507" y="846"/>
                </a:lnTo>
                <a:lnTo>
                  <a:pt x="542" y="1058"/>
                </a:lnTo>
                <a:lnTo>
                  <a:pt x="542" y="1177"/>
                </a:lnTo>
                <a:lnTo>
                  <a:pt x="542" y="1296"/>
                </a:lnTo>
                <a:lnTo>
                  <a:pt x="542" y="1419"/>
                </a:lnTo>
                <a:lnTo>
                  <a:pt x="542" y="1538"/>
                </a:lnTo>
                <a:lnTo>
                  <a:pt x="507" y="1662"/>
                </a:lnTo>
                <a:lnTo>
                  <a:pt x="436" y="1865"/>
                </a:lnTo>
                <a:lnTo>
                  <a:pt x="374" y="2024"/>
                </a:lnTo>
                <a:lnTo>
                  <a:pt x="304" y="2226"/>
                </a:lnTo>
                <a:lnTo>
                  <a:pt x="238" y="2394"/>
                </a:lnTo>
                <a:lnTo>
                  <a:pt x="167" y="2632"/>
                </a:lnTo>
                <a:lnTo>
                  <a:pt x="101" y="2795"/>
                </a:lnTo>
                <a:lnTo>
                  <a:pt x="35" y="2998"/>
                </a:lnTo>
                <a:lnTo>
                  <a:pt x="35" y="3166"/>
                </a:lnTo>
                <a:lnTo>
                  <a:pt x="0" y="3324"/>
                </a:lnTo>
                <a:lnTo>
                  <a:pt x="0" y="3488"/>
                </a:lnTo>
                <a:lnTo>
                  <a:pt x="0" y="3651"/>
                </a:lnTo>
                <a:lnTo>
                  <a:pt x="0" y="3810"/>
                </a:lnTo>
                <a:lnTo>
                  <a:pt x="0" y="3973"/>
                </a:lnTo>
                <a:lnTo>
                  <a:pt x="0" y="4096"/>
                </a:lnTo>
                <a:lnTo>
                  <a:pt x="0" y="4215"/>
                </a:lnTo>
                <a:lnTo>
                  <a:pt x="0" y="4343"/>
                </a:lnTo>
                <a:lnTo>
                  <a:pt x="0" y="4462"/>
                </a:lnTo>
                <a:lnTo>
                  <a:pt x="35" y="4621"/>
                </a:lnTo>
                <a:lnTo>
                  <a:pt x="70" y="4824"/>
                </a:lnTo>
                <a:lnTo>
                  <a:pt x="101" y="4987"/>
                </a:lnTo>
                <a:lnTo>
                  <a:pt x="136" y="5150"/>
                </a:lnTo>
                <a:lnTo>
                  <a:pt x="167" y="5310"/>
                </a:lnTo>
                <a:lnTo>
                  <a:pt x="207" y="5477"/>
                </a:lnTo>
                <a:lnTo>
                  <a:pt x="207" y="5641"/>
                </a:lnTo>
                <a:lnTo>
                  <a:pt x="207" y="5843"/>
                </a:lnTo>
                <a:lnTo>
                  <a:pt x="167" y="5962"/>
                </a:lnTo>
                <a:lnTo>
                  <a:pt x="136" y="6121"/>
                </a:lnTo>
                <a:lnTo>
                  <a:pt x="136" y="6284"/>
                </a:lnTo>
                <a:lnTo>
                  <a:pt x="70" y="6487"/>
                </a:lnTo>
                <a:lnTo>
                  <a:pt x="35" y="6655"/>
                </a:lnTo>
                <a:lnTo>
                  <a:pt x="0" y="6853"/>
                </a:lnTo>
                <a:lnTo>
                  <a:pt x="0" y="7056"/>
                </a:lnTo>
                <a:lnTo>
                  <a:pt x="0" y="7299"/>
                </a:lnTo>
                <a:lnTo>
                  <a:pt x="0" y="7546"/>
                </a:lnTo>
                <a:lnTo>
                  <a:pt x="0" y="7788"/>
                </a:lnTo>
                <a:lnTo>
                  <a:pt x="70" y="7951"/>
                </a:lnTo>
                <a:lnTo>
                  <a:pt x="136" y="8154"/>
                </a:lnTo>
                <a:lnTo>
                  <a:pt x="238" y="8273"/>
                </a:lnTo>
                <a:lnTo>
                  <a:pt x="339" y="8476"/>
                </a:lnTo>
                <a:lnTo>
                  <a:pt x="507" y="8639"/>
                </a:lnTo>
                <a:lnTo>
                  <a:pt x="674" y="8798"/>
                </a:lnTo>
                <a:lnTo>
                  <a:pt x="842" y="8926"/>
                </a:lnTo>
                <a:lnTo>
                  <a:pt x="978" y="9045"/>
                </a:lnTo>
                <a:lnTo>
                  <a:pt x="1080" y="9129"/>
                </a:lnTo>
                <a:lnTo>
                  <a:pt x="1217" y="9248"/>
                </a:lnTo>
                <a:lnTo>
                  <a:pt x="1384" y="9367"/>
                </a:lnTo>
                <a:lnTo>
                  <a:pt x="1860" y="9451"/>
                </a:lnTo>
                <a:lnTo>
                  <a:pt x="2328" y="9570"/>
                </a:lnTo>
                <a:lnTo>
                  <a:pt x="2804" y="9653"/>
                </a:lnTo>
                <a:lnTo>
                  <a:pt x="3342" y="9772"/>
                </a:lnTo>
                <a:lnTo>
                  <a:pt x="3814" y="9936"/>
                </a:lnTo>
                <a:lnTo>
                  <a:pt x="4290" y="10059"/>
                </a:lnTo>
                <a:lnTo>
                  <a:pt x="4767" y="10178"/>
                </a:lnTo>
                <a:lnTo>
                  <a:pt x="4935" y="10297"/>
                </a:lnTo>
                <a:lnTo>
                  <a:pt x="5103" y="10381"/>
                </a:lnTo>
                <a:lnTo>
                  <a:pt x="5235" y="10425"/>
                </a:lnTo>
                <a:lnTo>
                  <a:pt x="5402" y="10500"/>
                </a:lnTo>
                <a:lnTo>
                  <a:pt x="5610" y="10544"/>
                </a:lnTo>
                <a:lnTo>
                  <a:pt x="5808" y="10584"/>
                </a:lnTo>
                <a:lnTo>
                  <a:pt x="6015" y="10584"/>
                </a:lnTo>
                <a:lnTo>
                  <a:pt x="6183" y="10584"/>
                </a:lnTo>
                <a:lnTo>
                  <a:pt x="6315" y="10465"/>
                </a:lnTo>
                <a:lnTo>
                  <a:pt x="6452" y="10341"/>
                </a:lnTo>
                <a:lnTo>
                  <a:pt x="6619" y="10262"/>
                </a:lnTo>
                <a:lnTo>
                  <a:pt x="6791" y="10138"/>
                </a:lnTo>
                <a:lnTo>
                  <a:pt x="6928" y="10019"/>
                </a:lnTo>
                <a:lnTo>
                  <a:pt x="6990" y="9817"/>
                </a:lnTo>
                <a:lnTo>
                  <a:pt x="6990" y="9570"/>
                </a:lnTo>
                <a:lnTo>
                  <a:pt x="6990" y="8926"/>
                </a:lnTo>
                <a:lnTo>
                  <a:pt x="6928" y="8357"/>
                </a:lnTo>
                <a:lnTo>
                  <a:pt x="6858" y="8154"/>
                </a:lnTo>
                <a:lnTo>
                  <a:pt x="6822" y="8031"/>
                </a:lnTo>
                <a:lnTo>
                  <a:pt x="6756" y="7867"/>
                </a:lnTo>
                <a:lnTo>
                  <a:pt x="6690" y="7704"/>
                </a:lnTo>
                <a:lnTo>
                  <a:pt x="6655" y="7501"/>
                </a:lnTo>
                <a:lnTo>
                  <a:pt x="6619" y="7382"/>
                </a:lnTo>
                <a:lnTo>
                  <a:pt x="6619" y="7215"/>
                </a:lnTo>
                <a:lnTo>
                  <a:pt x="6619" y="7096"/>
                </a:lnTo>
                <a:lnTo>
                  <a:pt x="6690" y="6977"/>
                </a:lnTo>
                <a:lnTo>
                  <a:pt x="6791" y="6853"/>
                </a:lnTo>
                <a:lnTo>
                  <a:pt x="6928" y="6774"/>
                </a:lnTo>
                <a:lnTo>
                  <a:pt x="7096" y="6655"/>
                </a:lnTo>
                <a:lnTo>
                  <a:pt x="7563" y="6571"/>
                </a:lnTo>
                <a:lnTo>
                  <a:pt x="8039" y="6487"/>
                </a:lnTo>
                <a:lnTo>
                  <a:pt x="8511" y="6408"/>
                </a:lnTo>
                <a:lnTo>
                  <a:pt x="8683" y="6368"/>
                </a:lnTo>
                <a:lnTo>
                  <a:pt x="8851" y="6284"/>
                </a:lnTo>
                <a:lnTo>
                  <a:pt x="8983" y="6205"/>
                </a:lnTo>
                <a:lnTo>
                  <a:pt x="9120" y="6082"/>
                </a:lnTo>
                <a:lnTo>
                  <a:pt x="9190" y="5962"/>
                </a:lnTo>
                <a:lnTo>
                  <a:pt x="9257" y="5799"/>
                </a:lnTo>
                <a:lnTo>
                  <a:pt x="9327" y="5680"/>
                </a:lnTo>
                <a:lnTo>
                  <a:pt x="9358" y="5477"/>
                </a:lnTo>
                <a:lnTo>
                  <a:pt x="9358" y="5310"/>
                </a:lnTo>
                <a:lnTo>
                  <a:pt x="9389" y="5106"/>
                </a:lnTo>
                <a:lnTo>
                  <a:pt x="9389" y="4868"/>
                </a:lnTo>
                <a:lnTo>
                  <a:pt x="9358" y="4621"/>
                </a:lnTo>
                <a:lnTo>
                  <a:pt x="9327" y="4378"/>
                </a:lnTo>
                <a:lnTo>
                  <a:pt x="9257" y="4176"/>
                </a:lnTo>
                <a:lnTo>
                  <a:pt x="9190" y="3973"/>
                </a:lnTo>
                <a:lnTo>
                  <a:pt x="9089" y="3770"/>
                </a:lnTo>
                <a:lnTo>
                  <a:pt x="9018" y="3607"/>
                </a:lnTo>
                <a:lnTo>
                  <a:pt x="8917" y="3404"/>
                </a:lnTo>
                <a:lnTo>
                  <a:pt x="8816" y="3285"/>
                </a:lnTo>
                <a:lnTo>
                  <a:pt x="8714" y="3122"/>
                </a:lnTo>
                <a:lnTo>
                  <a:pt x="8644" y="2963"/>
                </a:lnTo>
                <a:lnTo>
                  <a:pt x="8511" y="2835"/>
                </a:lnTo>
                <a:lnTo>
                  <a:pt x="8414" y="2676"/>
                </a:lnTo>
                <a:lnTo>
                  <a:pt x="8308" y="2557"/>
                </a:lnTo>
                <a:lnTo>
                  <a:pt x="8207" y="2429"/>
                </a:lnTo>
                <a:lnTo>
                  <a:pt x="8106" y="2394"/>
                </a:lnTo>
                <a:lnTo>
                  <a:pt x="8009" y="2354"/>
                </a:lnTo>
                <a:lnTo>
                  <a:pt x="7903" y="2354"/>
                </a:lnTo>
                <a:lnTo>
                  <a:pt x="7801" y="2354"/>
                </a:lnTo>
                <a:lnTo>
                  <a:pt x="7700" y="2394"/>
                </a:lnTo>
                <a:lnTo>
                  <a:pt x="7563" y="2513"/>
                </a:lnTo>
                <a:lnTo>
                  <a:pt x="7466" y="2597"/>
                </a:lnTo>
                <a:lnTo>
                  <a:pt x="7365" y="2632"/>
                </a:lnTo>
                <a:lnTo>
                  <a:pt x="7263" y="2597"/>
                </a:lnTo>
                <a:lnTo>
                  <a:pt x="7157" y="2473"/>
                </a:lnTo>
                <a:lnTo>
                  <a:pt x="7060" y="2310"/>
                </a:lnTo>
                <a:lnTo>
                  <a:pt x="6928" y="2151"/>
                </a:lnTo>
                <a:lnTo>
                  <a:pt x="6791" y="1944"/>
                </a:lnTo>
                <a:lnTo>
                  <a:pt x="6690" y="1785"/>
                </a:lnTo>
                <a:lnTo>
                  <a:pt x="6619" y="1662"/>
                </a:lnTo>
                <a:lnTo>
                  <a:pt x="6522" y="1538"/>
                </a:lnTo>
                <a:lnTo>
                  <a:pt x="6386" y="1380"/>
                </a:lnTo>
                <a:lnTo>
                  <a:pt x="6183" y="1217"/>
                </a:lnTo>
                <a:lnTo>
                  <a:pt x="6077" y="1133"/>
                </a:lnTo>
                <a:lnTo>
                  <a:pt x="5945" y="1093"/>
                </a:lnTo>
                <a:lnTo>
                  <a:pt x="5848" y="1058"/>
                </a:lnTo>
                <a:lnTo>
                  <a:pt x="5742" y="1014"/>
                </a:lnTo>
                <a:lnTo>
                  <a:pt x="5539" y="1014"/>
                </a:lnTo>
                <a:lnTo>
                  <a:pt x="5372" y="974"/>
                </a:lnTo>
                <a:lnTo>
                  <a:pt x="5204" y="930"/>
                </a:lnTo>
                <a:lnTo>
                  <a:pt x="5036" y="930"/>
                </a:lnTo>
                <a:lnTo>
                  <a:pt x="4864" y="890"/>
                </a:lnTo>
                <a:lnTo>
                  <a:pt x="4728" y="890"/>
                </a:lnTo>
                <a:lnTo>
                  <a:pt x="4630" y="846"/>
                </a:lnTo>
                <a:lnTo>
                  <a:pt x="4489" y="846"/>
                </a:lnTo>
                <a:lnTo>
                  <a:pt x="4361" y="846"/>
                </a:lnTo>
                <a:lnTo>
                  <a:pt x="4255" y="811"/>
                </a:lnTo>
                <a:lnTo>
                  <a:pt x="4083" y="771"/>
                </a:lnTo>
                <a:lnTo>
                  <a:pt x="3951" y="727"/>
                </a:lnTo>
                <a:lnTo>
                  <a:pt x="3854" y="608"/>
                </a:lnTo>
                <a:lnTo>
                  <a:pt x="3783" y="489"/>
                </a:lnTo>
                <a:lnTo>
                  <a:pt x="3717" y="366"/>
                </a:lnTo>
                <a:lnTo>
                  <a:pt x="3580" y="449"/>
                </a:lnTo>
                <a:lnTo>
                  <a:pt x="3796" y="449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240" y="2712960"/>
            <a:ext cx="2865960" cy="3383280"/>
          </a:xfrm>
          <a:custGeom>
            <a:avLst/>
            <a:gdLst/>
            <a:ahLst/>
            <a:rect l="0" t="0" r="r" b="b"/>
            <a:pathLst>
              <a:path w="7961" h="9398">
                <a:moveTo>
                  <a:pt x="4622" y="83"/>
                </a:moveTo>
                <a:lnTo>
                  <a:pt x="4525" y="30"/>
                </a:lnTo>
                <a:lnTo>
                  <a:pt x="4423" y="0"/>
                </a:lnTo>
                <a:lnTo>
                  <a:pt x="4238" y="0"/>
                </a:lnTo>
                <a:lnTo>
                  <a:pt x="4110" y="0"/>
                </a:lnTo>
                <a:lnTo>
                  <a:pt x="3749" y="0"/>
                </a:lnTo>
                <a:lnTo>
                  <a:pt x="3387" y="0"/>
                </a:lnTo>
                <a:lnTo>
                  <a:pt x="3233" y="0"/>
                </a:lnTo>
                <a:lnTo>
                  <a:pt x="3074" y="0"/>
                </a:lnTo>
                <a:lnTo>
                  <a:pt x="2920" y="0"/>
                </a:lnTo>
                <a:lnTo>
                  <a:pt x="2818" y="0"/>
                </a:lnTo>
                <a:lnTo>
                  <a:pt x="2686" y="0"/>
                </a:lnTo>
                <a:lnTo>
                  <a:pt x="2585" y="0"/>
                </a:lnTo>
                <a:lnTo>
                  <a:pt x="2505" y="0"/>
                </a:lnTo>
                <a:lnTo>
                  <a:pt x="2404" y="0"/>
                </a:lnTo>
                <a:lnTo>
                  <a:pt x="2329" y="0"/>
                </a:lnTo>
                <a:lnTo>
                  <a:pt x="2249" y="0"/>
                </a:lnTo>
                <a:lnTo>
                  <a:pt x="2170" y="30"/>
                </a:lnTo>
                <a:lnTo>
                  <a:pt x="2095" y="30"/>
                </a:lnTo>
                <a:lnTo>
                  <a:pt x="2016" y="66"/>
                </a:lnTo>
                <a:lnTo>
                  <a:pt x="1887" y="127"/>
                </a:lnTo>
                <a:lnTo>
                  <a:pt x="1807" y="163"/>
                </a:lnTo>
                <a:lnTo>
                  <a:pt x="1706" y="260"/>
                </a:lnTo>
                <a:lnTo>
                  <a:pt x="1631" y="321"/>
                </a:lnTo>
                <a:lnTo>
                  <a:pt x="1547" y="418"/>
                </a:lnTo>
                <a:lnTo>
                  <a:pt x="1472" y="515"/>
                </a:lnTo>
                <a:lnTo>
                  <a:pt x="1371" y="582"/>
                </a:lnTo>
                <a:lnTo>
                  <a:pt x="1292" y="679"/>
                </a:lnTo>
                <a:lnTo>
                  <a:pt x="1212" y="714"/>
                </a:lnTo>
                <a:lnTo>
                  <a:pt x="1111" y="811"/>
                </a:lnTo>
                <a:lnTo>
                  <a:pt x="1031" y="873"/>
                </a:lnTo>
                <a:lnTo>
                  <a:pt x="956" y="903"/>
                </a:lnTo>
                <a:lnTo>
                  <a:pt x="851" y="1001"/>
                </a:lnTo>
                <a:lnTo>
                  <a:pt x="776" y="1067"/>
                </a:lnTo>
                <a:lnTo>
                  <a:pt x="696" y="1199"/>
                </a:lnTo>
                <a:lnTo>
                  <a:pt x="674" y="1296"/>
                </a:lnTo>
                <a:lnTo>
                  <a:pt x="643" y="1455"/>
                </a:lnTo>
                <a:lnTo>
                  <a:pt x="643" y="1552"/>
                </a:lnTo>
                <a:lnTo>
                  <a:pt x="621" y="1653"/>
                </a:lnTo>
                <a:lnTo>
                  <a:pt x="621" y="1750"/>
                </a:lnTo>
                <a:lnTo>
                  <a:pt x="621" y="1878"/>
                </a:lnTo>
                <a:lnTo>
                  <a:pt x="643" y="2006"/>
                </a:lnTo>
                <a:lnTo>
                  <a:pt x="643" y="2103"/>
                </a:lnTo>
                <a:lnTo>
                  <a:pt x="674" y="2266"/>
                </a:lnTo>
                <a:lnTo>
                  <a:pt x="696" y="2429"/>
                </a:lnTo>
                <a:lnTo>
                  <a:pt x="696" y="2526"/>
                </a:lnTo>
                <a:lnTo>
                  <a:pt x="696" y="2689"/>
                </a:lnTo>
                <a:lnTo>
                  <a:pt x="674" y="2817"/>
                </a:lnTo>
                <a:lnTo>
                  <a:pt x="568" y="2980"/>
                </a:lnTo>
                <a:lnTo>
                  <a:pt x="515" y="3073"/>
                </a:lnTo>
                <a:lnTo>
                  <a:pt x="440" y="3175"/>
                </a:lnTo>
                <a:lnTo>
                  <a:pt x="335" y="3302"/>
                </a:lnTo>
                <a:lnTo>
                  <a:pt x="260" y="3404"/>
                </a:lnTo>
                <a:lnTo>
                  <a:pt x="207" y="3501"/>
                </a:lnTo>
                <a:lnTo>
                  <a:pt x="154" y="3593"/>
                </a:lnTo>
                <a:lnTo>
                  <a:pt x="105" y="3726"/>
                </a:lnTo>
                <a:lnTo>
                  <a:pt x="52" y="3920"/>
                </a:lnTo>
                <a:lnTo>
                  <a:pt x="52" y="4052"/>
                </a:lnTo>
                <a:lnTo>
                  <a:pt x="26" y="4176"/>
                </a:lnTo>
                <a:lnTo>
                  <a:pt x="0" y="4374"/>
                </a:lnTo>
                <a:lnTo>
                  <a:pt x="0" y="4825"/>
                </a:lnTo>
                <a:lnTo>
                  <a:pt x="0" y="5279"/>
                </a:lnTo>
                <a:lnTo>
                  <a:pt x="0" y="5738"/>
                </a:lnTo>
                <a:lnTo>
                  <a:pt x="26" y="6192"/>
                </a:lnTo>
                <a:lnTo>
                  <a:pt x="52" y="6381"/>
                </a:lnTo>
                <a:lnTo>
                  <a:pt x="74" y="6545"/>
                </a:lnTo>
                <a:lnTo>
                  <a:pt x="127" y="6708"/>
                </a:lnTo>
                <a:lnTo>
                  <a:pt x="154" y="6840"/>
                </a:lnTo>
                <a:lnTo>
                  <a:pt x="180" y="6963"/>
                </a:lnTo>
                <a:lnTo>
                  <a:pt x="207" y="7065"/>
                </a:lnTo>
                <a:lnTo>
                  <a:pt x="207" y="7193"/>
                </a:lnTo>
                <a:lnTo>
                  <a:pt x="207" y="7290"/>
                </a:lnTo>
                <a:lnTo>
                  <a:pt x="207" y="7391"/>
                </a:lnTo>
                <a:lnTo>
                  <a:pt x="207" y="7484"/>
                </a:lnTo>
                <a:lnTo>
                  <a:pt x="207" y="7612"/>
                </a:lnTo>
                <a:lnTo>
                  <a:pt x="233" y="7744"/>
                </a:lnTo>
                <a:lnTo>
                  <a:pt x="260" y="7841"/>
                </a:lnTo>
                <a:lnTo>
                  <a:pt x="282" y="7942"/>
                </a:lnTo>
                <a:lnTo>
                  <a:pt x="361" y="8004"/>
                </a:lnTo>
                <a:lnTo>
                  <a:pt x="440" y="8066"/>
                </a:lnTo>
                <a:lnTo>
                  <a:pt x="542" y="8132"/>
                </a:lnTo>
                <a:lnTo>
                  <a:pt x="696" y="8229"/>
                </a:lnTo>
                <a:lnTo>
                  <a:pt x="851" y="8295"/>
                </a:lnTo>
                <a:lnTo>
                  <a:pt x="1009" y="8326"/>
                </a:lnTo>
                <a:lnTo>
                  <a:pt x="1164" y="8392"/>
                </a:lnTo>
                <a:lnTo>
                  <a:pt x="1318" y="8427"/>
                </a:lnTo>
                <a:lnTo>
                  <a:pt x="1446" y="8458"/>
                </a:lnTo>
                <a:lnTo>
                  <a:pt x="1547" y="8458"/>
                </a:lnTo>
                <a:lnTo>
                  <a:pt x="1680" y="8427"/>
                </a:lnTo>
                <a:lnTo>
                  <a:pt x="1781" y="8326"/>
                </a:lnTo>
                <a:lnTo>
                  <a:pt x="1834" y="8229"/>
                </a:lnTo>
                <a:lnTo>
                  <a:pt x="1913" y="8163"/>
                </a:lnTo>
                <a:lnTo>
                  <a:pt x="1988" y="8101"/>
                </a:lnTo>
                <a:lnTo>
                  <a:pt x="2095" y="8066"/>
                </a:lnTo>
                <a:lnTo>
                  <a:pt x="2170" y="8004"/>
                </a:lnTo>
                <a:lnTo>
                  <a:pt x="2276" y="7973"/>
                </a:lnTo>
                <a:lnTo>
                  <a:pt x="2404" y="7973"/>
                </a:lnTo>
                <a:lnTo>
                  <a:pt x="2532" y="7942"/>
                </a:lnTo>
                <a:lnTo>
                  <a:pt x="2664" y="7942"/>
                </a:lnTo>
                <a:lnTo>
                  <a:pt x="2792" y="7942"/>
                </a:lnTo>
                <a:lnTo>
                  <a:pt x="2898" y="7973"/>
                </a:lnTo>
                <a:lnTo>
                  <a:pt x="2973" y="8101"/>
                </a:lnTo>
                <a:lnTo>
                  <a:pt x="3052" y="8229"/>
                </a:lnTo>
                <a:lnTo>
                  <a:pt x="3127" y="8361"/>
                </a:lnTo>
                <a:lnTo>
                  <a:pt x="3202" y="8458"/>
                </a:lnTo>
                <a:lnTo>
                  <a:pt x="3286" y="8555"/>
                </a:lnTo>
                <a:lnTo>
                  <a:pt x="3339" y="8652"/>
                </a:lnTo>
                <a:lnTo>
                  <a:pt x="3414" y="8780"/>
                </a:lnTo>
                <a:lnTo>
                  <a:pt x="3515" y="8877"/>
                </a:lnTo>
                <a:lnTo>
                  <a:pt x="3594" y="8979"/>
                </a:lnTo>
                <a:lnTo>
                  <a:pt x="3669" y="9076"/>
                </a:lnTo>
                <a:lnTo>
                  <a:pt x="3749" y="9137"/>
                </a:lnTo>
                <a:lnTo>
                  <a:pt x="3855" y="9199"/>
                </a:lnTo>
                <a:lnTo>
                  <a:pt x="3956" y="9265"/>
                </a:lnTo>
                <a:lnTo>
                  <a:pt x="4057" y="9331"/>
                </a:lnTo>
                <a:lnTo>
                  <a:pt x="4163" y="9331"/>
                </a:lnTo>
                <a:lnTo>
                  <a:pt x="4291" y="9362"/>
                </a:lnTo>
                <a:lnTo>
                  <a:pt x="4393" y="9398"/>
                </a:lnTo>
                <a:lnTo>
                  <a:pt x="4525" y="9398"/>
                </a:lnTo>
                <a:lnTo>
                  <a:pt x="4600" y="9398"/>
                </a:lnTo>
                <a:lnTo>
                  <a:pt x="4679" y="9362"/>
                </a:lnTo>
                <a:lnTo>
                  <a:pt x="4759" y="9331"/>
                </a:lnTo>
                <a:lnTo>
                  <a:pt x="4860" y="9234"/>
                </a:lnTo>
                <a:lnTo>
                  <a:pt x="4939" y="9137"/>
                </a:lnTo>
                <a:lnTo>
                  <a:pt x="4961" y="9040"/>
                </a:lnTo>
                <a:lnTo>
                  <a:pt x="5067" y="8913"/>
                </a:lnTo>
                <a:lnTo>
                  <a:pt x="5169" y="8846"/>
                </a:lnTo>
                <a:lnTo>
                  <a:pt x="5275" y="8749"/>
                </a:lnTo>
                <a:lnTo>
                  <a:pt x="5376" y="8652"/>
                </a:lnTo>
                <a:lnTo>
                  <a:pt x="5508" y="8586"/>
                </a:lnTo>
                <a:lnTo>
                  <a:pt x="5865" y="8524"/>
                </a:lnTo>
                <a:lnTo>
                  <a:pt x="6232" y="8489"/>
                </a:lnTo>
                <a:lnTo>
                  <a:pt x="6594" y="8489"/>
                </a:lnTo>
                <a:lnTo>
                  <a:pt x="6748" y="8489"/>
                </a:lnTo>
                <a:lnTo>
                  <a:pt x="6850" y="8489"/>
                </a:lnTo>
                <a:lnTo>
                  <a:pt x="6956" y="8524"/>
                </a:lnTo>
                <a:lnTo>
                  <a:pt x="7035" y="8555"/>
                </a:lnTo>
                <a:lnTo>
                  <a:pt x="7132" y="8617"/>
                </a:lnTo>
                <a:lnTo>
                  <a:pt x="7264" y="8652"/>
                </a:lnTo>
                <a:lnTo>
                  <a:pt x="7344" y="8652"/>
                </a:lnTo>
                <a:lnTo>
                  <a:pt x="7419" y="8652"/>
                </a:lnTo>
                <a:lnTo>
                  <a:pt x="7498" y="8617"/>
                </a:lnTo>
                <a:lnTo>
                  <a:pt x="7573" y="8555"/>
                </a:lnTo>
                <a:lnTo>
                  <a:pt x="7626" y="8458"/>
                </a:lnTo>
                <a:lnTo>
                  <a:pt x="7701" y="8326"/>
                </a:lnTo>
                <a:lnTo>
                  <a:pt x="7754" y="8198"/>
                </a:lnTo>
                <a:lnTo>
                  <a:pt x="7807" y="8066"/>
                </a:lnTo>
                <a:lnTo>
                  <a:pt x="7833" y="7973"/>
                </a:lnTo>
                <a:lnTo>
                  <a:pt x="7886" y="7876"/>
                </a:lnTo>
                <a:lnTo>
                  <a:pt x="7935" y="7779"/>
                </a:lnTo>
                <a:lnTo>
                  <a:pt x="7961" y="7647"/>
                </a:lnTo>
                <a:lnTo>
                  <a:pt x="7961" y="7550"/>
                </a:lnTo>
                <a:lnTo>
                  <a:pt x="7961" y="7453"/>
                </a:lnTo>
                <a:lnTo>
                  <a:pt x="7961" y="7356"/>
                </a:lnTo>
                <a:lnTo>
                  <a:pt x="7961" y="7193"/>
                </a:lnTo>
                <a:lnTo>
                  <a:pt x="7961" y="7065"/>
                </a:lnTo>
                <a:lnTo>
                  <a:pt x="7935" y="6963"/>
                </a:lnTo>
                <a:lnTo>
                  <a:pt x="7913" y="6871"/>
                </a:lnTo>
                <a:lnTo>
                  <a:pt x="7886" y="6774"/>
                </a:lnTo>
                <a:lnTo>
                  <a:pt x="7860" y="6677"/>
                </a:lnTo>
                <a:lnTo>
                  <a:pt x="7833" y="6545"/>
                </a:lnTo>
                <a:lnTo>
                  <a:pt x="7785" y="6412"/>
                </a:lnTo>
                <a:lnTo>
                  <a:pt x="7754" y="6289"/>
                </a:lnTo>
                <a:lnTo>
                  <a:pt x="7732" y="6192"/>
                </a:lnTo>
                <a:lnTo>
                  <a:pt x="7732" y="6090"/>
                </a:lnTo>
                <a:lnTo>
                  <a:pt x="7701" y="5962"/>
                </a:lnTo>
                <a:lnTo>
                  <a:pt x="7701" y="5861"/>
                </a:lnTo>
                <a:lnTo>
                  <a:pt x="7701" y="5768"/>
                </a:lnTo>
                <a:lnTo>
                  <a:pt x="7701" y="5641"/>
                </a:lnTo>
                <a:lnTo>
                  <a:pt x="7732" y="5539"/>
                </a:lnTo>
                <a:lnTo>
                  <a:pt x="7785" y="5411"/>
                </a:lnTo>
                <a:lnTo>
                  <a:pt x="7833" y="5252"/>
                </a:lnTo>
                <a:lnTo>
                  <a:pt x="7860" y="5120"/>
                </a:lnTo>
                <a:lnTo>
                  <a:pt x="7913" y="4926"/>
                </a:lnTo>
                <a:lnTo>
                  <a:pt x="7913" y="4763"/>
                </a:lnTo>
                <a:lnTo>
                  <a:pt x="7913" y="4568"/>
                </a:lnTo>
                <a:lnTo>
                  <a:pt x="7913" y="4374"/>
                </a:lnTo>
                <a:lnTo>
                  <a:pt x="7886" y="4176"/>
                </a:lnTo>
                <a:lnTo>
                  <a:pt x="7860" y="4017"/>
                </a:lnTo>
                <a:lnTo>
                  <a:pt x="7833" y="3889"/>
                </a:lnTo>
                <a:lnTo>
                  <a:pt x="7785" y="3726"/>
                </a:lnTo>
                <a:lnTo>
                  <a:pt x="7754" y="3624"/>
                </a:lnTo>
                <a:lnTo>
                  <a:pt x="7701" y="3501"/>
                </a:lnTo>
                <a:lnTo>
                  <a:pt x="7652" y="3404"/>
                </a:lnTo>
                <a:lnTo>
                  <a:pt x="7599" y="3272"/>
                </a:lnTo>
                <a:lnTo>
                  <a:pt x="7498" y="3175"/>
                </a:lnTo>
                <a:lnTo>
                  <a:pt x="7392" y="3042"/>
                </a:lnTo>
                <a:lnTo>
                  <a:pt x="7291" y="2914"/>
                </a:lnTo>
                <a:lnTo>
                  <a:pt x="7216" y="2786"/>
                </a:lnTo>
                <a:lnTo>
                  <a:pt x="7110" y="2654"/>
                </a:lnTo>
                <a:lnTo>
                  <a:pt x="7004" y="2557"/>
                </a:lnTo>
                <a:lnTo>
                  <a:pt x="6929" y="2429"/>
                </a:lnTo>
                <a:lnTo>
                  <a:pt x="6850" y="2332"/>
                </a:lnTo>
                <a:lnTo>
                  <a:pt x="6775" y="2200"/>
                </a:lnTo>
                <a:lnTo>
                  <a:pt x="6695" y="2103"/>
                </a:lnTo>
                <a:lnTo>
                  <a:pt x="6647" y="1975"/>
                </a:lnTo>
                <a:lnTo>
                  <a:pt x="6563" y="1878"/>
                </a:lnTo>
                <a:lnTo>
                  <a:pt x="6488" y="1781"/>
                </a:lnTo>
                <a:lnTo>
                  <a:pt x="6413" y="1653"/>
                </a:lnTo>
                <a:lnTo>
                  <a:pt x="6360" y="1521"/>
                </a:lnTo>
                <a:lnTo>
                  <a:pt x="6307" y="1362"/>
                </a:lnTo>
                <a:lnTo>
                  <a:pt x="6307" y="1265"/>
                </a:lnTo>
                <a:lnTo>
                  <a:pt x="6307" y="1133"/>
                </a:lnTo>
                <a:lnTo>
                  <a:pt x="6307" y="1036"/>
                </a:lnTo>
                <a:lnTo>
                  <a:pt x="6281" y="903"/>
                </a:lnTo>
                <a:lnTo>
                  <a:pt x="6281" y="780"/>
                </a:lnTo>
                <a:lnTo>
                  <a:pt x="6259" y="648"/>
                </a:lnTo>
                <a:lnTo>
                  <a:pt x="6232" y="485"/>
                </a:lnTo>
                <a:lnTo>
                  <a:pt x="6153" y="352"/>
                </a:lnTo>
                <a:lnTo>
                  <a:pt x="6078" y="286"/>
                </a:lnTo>
                <a:lnTo>
                  <a:pt x="5972" y="194"/>
                </a:lnTo>
                <a:lnTo>
                  <a:pt x="5865" y="163"/>
                </a:lnTo>
                <a:lnTo>
                  <a:pt x="5764" y="127"/>
                </a:lnTo>
                <a:lnTo>
                  <a:pt x="5663" y="127"/>
                </a:lnTo>
                <a:lnTo>
                  <a:pt x="5561" y="127"/>
                </a:lnTo>
                <a:lnTo>
                  <a:pt x="5477" y="127"/>
                </a:lnTo>
                <a:lnTo>
                  <a:pt x="5376" y="127"/>
                </a:lnTo>
                <a:lnTo>
                  <a:pt x="5275" y="163"/>
                </a:lnTo>
                <a:lnTo>
                  <a:pt x="5169" y="163"/>
                </a:lnTo>
                <a:lnTo>
                  <a:pt x="5094" y="163"/>
                </a:lnTo>
                <a:lnTo>
                  <a:pt x="4992" y="163"/>
                </a:lnTo>
                <a:lnTo>
                  <a:pt x="4886" y="163"/>
                </a:lnTo>
                <a:lnTo>
                  <a:pt x="4807" y="163"/>
                </a:lnTo>
                <a:lnTo>
                  <a:pt x="4732" y="163"/>
                </a:lnTo>
                <a:lnTo>
                  <a:pt x="4653" y="163"/>
                </a:lnTo>
                <a:lnTo>
                  <a:pt x="4622" y="83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6280" y="2651040"/>
            <a:ext cx="731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413160" y="2575080"/>
            <a:ext cx="96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352680"/>
            <a:ext cx="914400" cy="30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276720"/>
            <a:ext cx="990720" cy="1828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429000"/>
            <a:ext cx="16761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30640" y="5297400"/>
            <a:ext cx="457524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TMyObjec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IMyObject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is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override;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at:Integer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override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WalkUp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WalkDown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3124080"/>
            <a:ext cx="1066680" cy="4572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335268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42900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50532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73560" y="3581280"/>
            <a:ext cx="396864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IMyObjec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is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abstra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at:Integer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abstra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708440" y="3070080"/>
            <a:ext cx="824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708440" y="3298680"/>
            <a:ext cx="824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++ code to Call th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MyObject *pObj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-&gt;DoThis()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x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x = pObj-&gt;DoTha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ys of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reate an instance of a class in another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an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 a new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ctor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657440"/>
            <a:ext cx="914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tory fun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function that creates and object and returns an interface t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CreateMyObject: IMyObjec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egin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Result := IMyObject(TMyObject.Create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ys of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reate an instance of a class in another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troy an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 a new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eeing an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914256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DestroyMyObject( obj: IMyObject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egin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(obj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TMyObject).Fre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eeing an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143000"/>
            <a:ext cx="914256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method in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MyObject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is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; abstract; stdcall;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at: Integer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; abstract; stdcall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Release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; abstract; stdcall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 Forms in OWL &amp; MFC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eeing an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143000"/>
            <a:ext cx="914256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method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MyObject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(IMyObject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is;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override;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DoThat: Integer;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override;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Release;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override;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TMyObject.Release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egin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self.Free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ys of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reate an instance of a class in another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troy an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 a new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bclassing is not for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s are self-contained, with minimum depend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a Delphi Object From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technique only the other way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ipulating a C++ Object From Pa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280" y="165744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Code Calls a Method on the C++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209680"/>
            <a:ext cx="3380040" cy="3810240"/>
          </a:xfrm>
          <a:custGeom>
            <a:avLst/>
            <a:gdLst/>
            <a:ahLst/>
            <a:rect l="0" t="0" r="r" b="b"/>
            <a:pathLst>
              <a:path w="9389" h="10584">
                <a:moveTo>
                  <a:pt x="3796" y="449"/>
                </a:moveTo>
                <a:lnTo>
                  <a:pt x="3545" y="286"/>
                </a:lnTo>
                <a:lnTo>
                  <a:pt x="3073" y="163"/>
                </a:lnTo>
                <a:lnTo>
                  <a:pt x="2597" y="83"/>
                </a:lnTo>
                <a:lnTo>
                  <a:pt x="2059" y="0"/>
                </a:lnTo>
                <a:lnTo>
                  <a:pt x="1516" y="0"/>
                </a:lnTo>
                <a:lnTo>
                  <a:pt x="1049" y="0"/>
                </a:lnTo>
                <a:lnTo>
                  <a:pt x="842" y="0"/>
                </a:lnTo>
                <a:lnTo>
                  <a:pt x="674" y="39"/>
                </a:lnTo>
                <a:lnTo>
                  <a:pt x="573" y="119"/>
                </a:lnTo>
                <a:lnTo>
                  <a:pt x="507" y="286"/>
                </a:lnTo>
                <a:lnTo>
                  <a:pt x="507" y="489"/>
                </a:lnTo>
                <a:lnTo>
                  <a:pt x="507" y="687"/>
                </a:lnTo>
                <a:lnTo>
                  <a:pt x="507" y="846"/>
                </a:lnTo>
                <a:lnTo>
                  <a:pt x="542" y="1058"/>
                </a:lnTo>
                <a:lnTo>
                  <a:pt x="542" y="1177"/>
                </a:lnTo>
                <a:lnTo>
                  <a:pt x="542" y="1296"/>
                </a:lnTo>
                <a:lnTo>
                  <a:pt x="542" y="1419"/>
                </a:lnTo>
                <a:lnTo>
                  <a:pt x="542" y="1538"/>
                </a:lnTo>
                <a:lnTo>
                  <a:pt x="507" y="1662"/>
                </a:lnTo>
                <a:lnTo>
                  <a:pt x="436" y="1865"/>
                </a:lnTo>
                <a:lnTo>
                  <a:pt x="374" y="2024"/>
                </a:lnTo>
                <a:lnTo>
                  <a:pt x="304" y="2226"/>
                </a:lnTo>
                <a:lnTo>
                  <a:pt x="238" y="2394"/>
                </a:lnTo>
                <a:lnTo>
                  <a:pt x="167" y="2632"/>
                </a:lnTo>
                <a:lnTo>
                  <a:pt x="101" y="2795"/>
                </a:lnTo>
                <a:lnTo>
                  <a:pt x="35" y="2998"/>
                </a:lnTo>
                <a:lnTo>
                  <a:pt x="35" y="3166"/>
                </a:lnTo>
                <a:lnTo>
                  <a:pt x="0" y="3324"/>
                </a:lnTo>
                <a:lnTo>
                  <a:pt x="0" y="3488"/>
                </a:lnTo>
                <a:lnTo>
                  <a:pt x="0" y="3651"/>
                </a:lnTo>
                <a:lnTo>
                  <a:pt x="0" y="3810"/>
                </a:lnTo>
                <a:lnTo>
                  <a:pt x="0" y="3973"/>
                </a:lnTo>
                <a:lnTo>
                  <a:pt x="0" y="4096"/>
                </a:lnTo>
                <a:lnTo>
                  <a:pt x="0" y="4215"/>
                </a:lnTo>
                <a:lnTo>
                  <a:pt x="0" y="4343"/>
                </a:lnTo>
                <a:lnTo>
                  <a:pt x="0" y="4462"/>
                </a:lnTo>
                <a:lnTo>
                  <a:pt x="35" y="4621"/>
                </a:lnTo>
                <a:lnTo>
                  <a:pt x="70" y="4824"/>
                </a:lnTo>
                <a:lnTo>
                  <a:pt x="101" y="4987"/>
                </a:lnTo>
                <a:lnTo>
                  <a:pt x="136" y="5150"/>
                </a:lnTo>
                <a:lnTo>
                  <a:pt x="167" y="5310"/>
                </a:lnTo>
                <a:lnTo>
                  <a:pt x="207" y="5477"/>
                </a:lnTo>
                <a:lnTo>
                  <a:pt x="207" y="5641"/>
                </a:lnTo>
                <a:lnTo>
                  <a:pt x="207" y="5843"/>
                </a:lnTo>
                <a:lnTo>
                  <a:pt x="167" y="5962"/>
                </a:lnTo>
                <a:lnTo>
                  <a:pt x="136" y="6121"/>
                </a:lnTo>
                <a:lnTo>
                  <a:pt x="136" y="6284"/>
                </a:lnTo>
                <a:lnTo>
                  <a:pt x="70" y="6487"/>
                </a:lnTo>
                <a:lnTo>
                  <a:pt x="35" y="6655"/>
                </a:lnTo>
                <a:lnTo>
                  <a:pt x="0" y="6853"/>
                </a:lnTo>
                <a:lnTo>
                  <a:pt x="0" y="7056"/>
                </a:lnTo>
                <a:lnTo>
                  <a:pt x="0" y="7299"/>
                </a:lnTo>
                <a:lnTo>
                  <a:pt x="0" y="7546"/>
                </a:lnTo>
                <a:lnTo>
                  <a:pt x="0" y="7788"/>
                </a:lnTo>
                <a:lnTo>
                  <a:pt x="70" y="7951"/>
                </a:lnTo>
                <a:lnTo>
                  <a:pt x="136" y="8154"/>
                </a:lnTo>
                <a:lnTo>
                  <a:pt x="238" y="8273"/>
                </a:lnTo>
                <a:lnTo>
                  <a:pt x="339" y="8476"/>
                </a:lnTo>
                <a:lnTo>
                  <a:pt x="507" y="8639"/>
                </a:lnTo>
                <a:lnTo>
                  <a:pt x="674" y="8798"/>
                </a:lnTo>
                <a:lnTo>
                  <a:pt x="842" y="8926"/>
                </a:lnTo>
                <a:lnTo>
                  <a:pt x="978" y="9045"/>
                </a:lnTo>
                <a:lnTo>
                  <a:pt x="1080" y="9129"/>
                </a:lnTo>
                <a:lnTo>
                  <a:pt x="1217" y="9248"/>
                </a:lnTo>
                <a:lnTo>
                  <a:pt x="1384" y="9367"/>
                </a:lnTo>
                <a:lnTo>
                  <a:pt x="1860" y="9451"/>
                </a:lnTo>
                <a:lnTo>
                  <a:pt x="2328" y="9570"/>
                </a:lnTo>
                <a:lnTo>
                  <a:pt x="2804" y="9653"/>
                </a:lnTo>
                <a:lnTo>
                  <a:pt x="3342" y="9772"/>
                </a:lnTo>
                <a:lnTo>
                  <a:pt x="3814" y="9936"/>
                </a:lnTo>
                <a:lnTo>
                  <a:pt x="4290" y="10059"/>
                </a:lnTo>
                <a:lnTo>
                  <a:pt x="4767" y="10178"/>
                </a:lnTo>
                <a:lnTo>
                  <a:pt x="4935" y="10297"/>
                </a:lnTo>
                <a:lnTo>
                  <a:pt x="5103" y="10381"/>
                </a:lnTo>
                <a:lnTo>
                  <a:pt x="5235" y="10425"/>
                </a:lnTo>
                <a:lnTo>
                  <a:pt x="5402" y="10500"/>
                </a:lnTo>
                <a:lnTo>
                  <a:pt x="5610" y="10544"/>
                </a:lnTo>
                <a:lnTo>
                  <a:pt x="5808" y="10584"/>
                </a:lnTo>
                <a:lnTo>
                  <a:pt x="6015" y="10584"/>
                </a:lnTo>
                <a:lnTo>
                  <a:pt x="6183" y="10584"/>
                </a:lnTo>
                <a:lnTo>
                  <a:pt x="6315" y="10465"/>
                </a:lnTo>
                <a:lnTo>
                  <a:pt x="6452" y="10341"/>
                </a:lnTo>
                <a:lnTo>
                  <a:pt x="6619" y="10262"/>
                </a:lnTo>
                <a:lnTo>
                  <a:pt x="6791" y="10138"/>
                </a:lnTo>
                <a:lnTo>
                  <a:pt x="6928" y="10019"/>
                </a:lnTo>
                <a:lnTo>
                  <a:pt x="6990" y="9817"/>
                </a:lnTo>
                <a:lnTo>
                  <a:pt x="6990" y="9570"/>
                </a:lnTo>
                <a:lnTo>
                  <a:pt x="6990" y="8926"/>
                </a:lnTo>
                <a:lnTo>
                  <a:pt x="6928" y="8357"/>
                </a:lnTo>
                <a:lnTo>
                  <a:pt x="6858" y="8154"/>
                </a:lnTo>
                <a:lnTo>
                  <a:pt x="6822" y="8031"/>
                </a:lnTo>
                <a:lnTo>
                  <a:pt x="6756" y="7867"/>
                </a:lnTo>
                <a:lnTo>
                  <a:pt x="6690" y="7704"/>
                </a:lnTo>
                <a:lnTo>
                  <a:pt x="6655" y="7501"/>
                </a:lnTo>
                <a:lnTo>
                  <a:pt x="6619" y="7382"/>
                </a:lnTo>
                <a:lnTo>
                  <a:pt x="6619" y="7215"/>
                </a:lnTo>
                <a:lnTo>
                  <a:pt x="6619" y="7096"/>
                </a:lnTo>
                <a:lnTo>
                  <a:pt x="6690" y="6977"/>
                </a:lnTo>
                <a:lnTo>
                  <a:pt x="6791" y="6853"/>
                </a:lnTo>
                <a:lnTo>
                  <a:pt x="6928" y="6774"/>
                </a:lnTo>
                <a:lnTo>
                  <a:pt x="7096" y="6655"/>
                </a:lnTo>
                <a:lnTo>
                  <a:pt x="7563" y="6571"/>
                </a:lnTo>
                <a:lnTo>
                  <a:pt x="8039" y="6487"/>
                </a:lnTo>
                <a:lnTo>
                  <a:pt x="8511" y="6408"/>
                </a:lnTo>
                <a:lnTo>
                  <a:pt x="8683" y="6368"/>
                </a:lnTo>
                <a:lnTo>
                  <a:pt x="8851" y="6284"/>
                </a:lnTo>
                <a:lnTo>
                  <a:pt x="8983" y="6205"/>
                </a:lnTo>
                <a:lnTo>
                  <a:pt x="9120" y="6082"/>
                </a:lnTo>
                <a:lnTo>
                  <a:pt x="9190" y="5962"/>
                </a:lnTo>
                <a:lnTo>
                  <a:pt x="9257" y="5799"/>
                </a:lnTo>
                <a:lnTo>
                  <a:pt x="9327" y="5680"/>
                </a:lnTo>
                <a:lnTo>
                  <a:pt x="9358" y="5477"/>
                </a:lnTo>
                <a:lnTo>
                  <a:pt x="9358" y="5310"/>
                </a:lnTo>
                <a:lnTo>
                  <a:pt x="9389" y="5106"/>
                </a:lnTo>
                <a:lnTo>
                  <a:pt x="9389" y="4868"/>
                </a:lnTo>
                <a:lnTo>
                  <a:pt x="9358" y="4621"/>
                </a:lnTo>
                <a:lnTo>
                  <a:pt x="9327" y="4378"/>
                </a:lnTo>
                <a:lnTo>
                  <a:pt x="9257" y="4176"/>
                </a:lnTo>
                <a:lnTo>
                  <a:pt x="9190" y="3973"/>
                </a:lnTo>
                <a:lnTo>
                  <a:pt x="9089" y="3770"/>
                </a:lnTo>
                <a:lnTo>
                  <a:pt x="9018" y="3607"/>
                </a:lnTo>
                <a:lnTo>
                  <a:pt x="8917" y="3404"/>
                </a:lnTo>
                <a:lnTo>
                  <a:pt x="8816" y="3285"/>
                </a:lnTo>
                <a:lnTo>
                  <a:pt x="8714" y="3122"/>
                </a:lnTo>
                <a:lnTo>
                  <a:pt x="8644" y="2963"/>
                </a:lnTo>
                <a:lnTo>
                  <a:pt x="8511" y="2835"/>
                </a:lnTo>
                <a:lnTo>
                  <a:pt x="8414" y="2676"/>
                </a:lnTo>
                <a:lnTo>
                  <a:pt x="8308" y="2557"/>
                </a:lnTo>
                <a:lnTo>
                  <a:pt x="8207" y="2429"/>
                </a:lnTo>
                <a:lnTo>
                  <a:pt x="8106" y="2394"/>
                </a:lnTo>
                <a:lnTo>
                  <a:pt x="8009" y="2354"/>
                </a:lnTo>
                <a:lnTo>
                  <a:pt x="7903" y="2354"/>
                </a:lnTo>
                <a:lnTo>
                  <a:pt x="7801" y="2354"/>
                </a:lnTo>
                <a:lnTo>
                  <a:pt x="7700" y="2394"/>
                </a:lnTo>
                <a:lnTo>
                  <a:pt x="7563" y="2513"/>
                </a:lnTo>
                <a:lnTo>
                  <a:pt x="7466" y="2597"/>
                </a:lnTo>
                <a:lnTo>
                  <a:pt x="7365" y="2632"/>
                </a:lnTo>
                <a:lnTo>
                  <a:pt x="7263" y="2597"/>
                </a:lnTo>
                <a:lnTo>
                  <a:pt x="7157" y="2473"/>
                </a:lnTo>
                <a:lnTo>
                  <a:pt x="7060" y="2310"/>
                </a:lnTo>
                <a:lnTo>
                  <a:pt x="6928" y="2151"/>
                </a:lnTo>
                <a:lnTo>
                  <a:pt x="6791" y="1944"/>
                </a:lnTo>
                <a:lnTo>
                  <a:pt x="6690" y="1785"/>
                </a:lnTo>
                <a:lnTo>
                  <a:pt x="6619" y="1662"/>
                </a:lnTo>
                <a:lnTo>
                  <a:pt x="6522" y="1538"/>
                </a:lnTo>
                <a:lnTo>
                  <a:pt x="6386" y="1380"/>
                </a:lnTo>
                <a:lnTo>
                  <a:pt x="6183" y="1217"/>
                </a:lnTo>
                <a:lnTo>
                  <a:pt x="6077" y="1133"/>
                </a:lnTo>
                <a:lnTo>
                  <a:pt x="5945" y="1093"/>
                </a:lnTo>
                <a:lnTo>
                  <a:pt x="5848" y="1058"/>
                </a:lnTo>
                <a:lnTo>
                  <a:pt x="5742" y="1014"/>
                </a:lnTo>
                <a:lnTo>
                  <a:pt x="5539" y="1014"/>
                </a:lnTo>
                <a:lnTo>
                  <a:pt x="5372" y="974"/>
                </a:lnTo>
                <a:lnTo>
                  <a:pt x="5204" y="930"/>
                </a:lnTo>
                <a:lnTo>
                  <a:pt x="5036" y="930"/>
                </a:lnTo>
                <a:lnTo>
                  <a:pt x="4864" y="890"/>
                </a:lnTo>
                <a:lnTo>
                  <a:pt x="4728" y="890"/>
                </a:lnTo>
                <a:lnTo>
                  <a:pt x="4630" y="846"/>
                </a:lnTo>
                <a:lnTo>
                  <a:pt x="4489" y="846"/>
                </a:lnTo>
                <a:lnTo>
                  <a:pt x="4361" y="846"/>
                </a:lnTo>
                <a:lnTo>
                  <a:pt x="4255" y="811"/>
                </a:lnTo>
                <a:lnTo>
                  <a:pt x="4083" y="771"/>
                </a:lnTo>
                <a:lnTo>
                  <a:pt x="3951" y="727"/>
                </a:lnTo>
                <a:lnTo>
                  <a:pt x="3854" y="608"/>
                </a:lnTo>
                <a:lnTo>
                  <a:pt x="3783" y="489"/>
                </a:lnTo>
                <a:lnTo>
                  <a:pt x="3717" y="366"/>
                </a:lnTo>
                <a:lnTo>
                  <a:pt x="3580" y="449"/>
                </a:lnTo>
                <a:lnTo>
                  <a:pt x="3796" y="449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240" y="2712960"/>
            <a:ext cx="2865960" cy="3383280"/>
          </a:xfrm>
          <a:custGeom>
            <a:avLst/>
            <a:gdLst/>
            <a:ahLst/>
            <a:rect l="0" t="0" r="r" b="b"/>
            <a:pathLst>
              <a:path w="7961" h="9398">
                <a:moveTo>
                  <a:pt x="4622" y="83"/>
                </a:moveTo>
                <a:lnTo>
                  <a:pt x="4525" y="30"/>
                </a:lnTo>
                <a:lnTo>
                  <a:pt x="4423" y="0"/>
                </a:lnTo>
                <a:lnTo>
                  <a:pt x="4238" y="0"/>
                </a:lnTo>
                <a:lnTo>
                  <a:pt x="4110" y="0"/>
                </a:lnTo>
                <a:lnTo>
                  <a:pt x="3749" y="0"/>
                </a:lnTo>
                <a:lnTo>
                  <a:pt x="3387" y="0"/>
                </a:lnTo>
                <a:lnTo>
                  <a:pt x="3233" y="0"/>
                </a:lnTo>
                <a:lnTo>
                  <a:pt x="3074" y="0"/>
                </a:lnTo>
                <a:lnTo>
                  <a:pt x="2920" y="0"/>
                </a:lnTo>
                <a:lnTo>
                  <a:pt x="2818" y="0"/>
                </a:lnTo>
                <a:lnTo>
                  <a:pt x="2686" y="0"/>
                </a:lnTo>
                <a:lnTo>
                  <a:pt x="2585" y="0"/>
                </a:lnTo>
                <a:lnTo>
                  <a:pt x="2505" y="0"/>
                </a:lnTo>
                <a:lnTo>
                  <a:pt x="2404" y="0"/>
                </a:lnTo>
                <a:lnTo>
                  <a:pt x="2329" y="0"/>
                </a:lnTo>
                <a:lnTo>
                  <a:pt x="2249" y="0"/>
                </a:lnTo>
                <a:lnTo>
                  <a:pt x="2170" y="30"/>
                </a:lnTo>
                <a:lnTo>
                  <a:pt x="2095" y="30"/>
                </a:lnTo>
                <a:lnTo>
                  <a:pt x="2016" y="66"/>
                </a:lnTo>
                <a:lnTo>
                  <a:pt x="1887" y="127"/>
                </a:lnTo>
                <a:lnTo>
                  <a:pt x="1807" y="163"/>
                </a:lnTo>
                <a:lnTo>
                  <a:pt x="1706" y="260"/>
                </a:lnTo>
                <a:lnTo>
                  <a:pt x="1631" y="321"/>
                </a:lnTo>
                <a:lnTo>
                  <a:pt x="1547" y="418"/>
                </a:lnTo>
                <a:lnTo>
                  <a:pt x="1472" y="515"/>
                </a:lnTo>
                <a:lnTo>
                  <a:pt x="1371" y="582"/>
                </a:lnTo>
                <a:lnTo>
                  <a:pt x="1292" y="679"/>
                </a:lnTo>
                <a:lnTo>
                  <a:pt x="1212" y="714"/>
                </a:lnTo>
                <a:lnTo>
                  <a:pt x="1111" y="811"/>
                </a:lnTo>
                <a:lnTo>
                  <a:pt x="1031" y="873"/>
                </a:lnTo>
                <a:lnTo>
                  <a:pt x="956" y="903"/>
                </a:lnTo>
                <a:lnTo>
                  <a:pt x="851" y="1001"/>
                </a:lnTo>
                <a:lnTo>
                  <a:pt x="776" y="1067"/>
                </a:lnTo>
                <a:lnTo>
                  <a:pt x="696" y="1199"/>
                </a:lnTo>
                <a:lnTo>
                  <a:pt x="674" y="1296"/>
                </a:lnTo>
                <a:lnTo>
                  <a:pt x="643" y="1455"/>
                </a:lnTo>
                <a:lnTo>
                  <a:pt x="643" y="1552"/>
                </a:lnTo>
                <a:lnTo>
                  <a:pt x="621" y="1653"/>
                </a:lnTo>
                <a:lnTo>
                  <a:pt x="621" y="1750"/>
                </a:lnTo>
                <a:lnTo>
                  <a:pt x="621" y="1878"/>
                </a:lnTo>
                <a:lnTo>
                  <a:pt x="643" y="2006"/>
                </a:lnTo>
                <a:lnTo>
                  <a:pt x="643" y="2103"/>
                </a:lnTo>
                <a:lnTo>
                  <a:pt x="674" y="2266"/>
                </a:lnTo>
                <a:lnTo>
                  <a:pt x="696" y="2429"/>
                </a:lnTo>
                <a:lnTo>
                  <a:pt x="696" y="2526"/>
                </a:lnTo>
                <a:lnTo>
                  <a:pt x="696" y="2689"/>
                </a:lnTo>
                <a:lnTo>
                  <a:pt x="674" y="2817"/>
                </a:lnTo>
                <a:lnTo>
                  <a:pt x="568" y="2980"/>
                </a:lnTo>
                <a:lnTo>
                  <a:pt x="515" y="3073"/>
                </a:lnTo>
                <a:lnTo>
                  <a:pt x="440" y="3175"/>
                </a:lnTo>
                <a:lnTo>
                  <a:pt x="335" y="3302"/>
                </a:lnTo>
                <a:lnTo>
                  <a:pt x="260" y="3404"/>
                </a:lnTo>
                <a:lnTo>
                  <a:pt x="207" y="3501"/>
                </a:lnTo>
                <a:lnTo>
                  <a:pt x="154" y="3593"/>
                </a:lnTo>
                <a:lnTo>
                  <a:pt x="105" y="3726"/>
                </a:lnTo>
                <a:lnTo>
                  <a:pt x="52" y="3920"/>
                </a:lnTo>
                <a:lnTo>
                  <a:pt x="52" y="4052"/>
                </a:lnTo>
                <a:lnTo>
                  <a:pt x="26" y="4176"/>
                </a:lnTo>
                <a:lnTo>
                  <a:pt x="0" y="4374"/>
                </a:lnTo>
                <a:lnTo>
                  <a:pt x="0" y="4825"/>
                </a:lnTo>
                <a:lnTo>
                  <a:pt x="0" y="5279"/>
                </a:lnTo>
                <a:lnTo>
                  <a:pt x="0" y="5738"/>
                </a:lnTo>
                <a:lnTo>
                  <a:pt x="26" y="6192"/>
                </a:lnTo>
                <a:lnTo>
                  <a:pt x="52" y="6381"/>
                </a:lnTo>
                <a:lnTo>
                  <a:pt x="74" y="6545"/>
                </a:lnTo>
                <a:lnTo>
                  <a:pt x="127" y="6708"/>
                </a:lnTo>
                <a:lnTo>
                  <a:pt x="154" y="6840"/>
                </a:lnTo>
                <a:lnTo>
                  <a:pt x="180" y="6963"/>
                </a:lnTo>
                <a:lnTo>
                  <a:pt x="207" y="7065"/>
                </a:lnTo>
                <a:lnTo>
                  <a:pt x="207" y="7193"/>
                </a:lnTo>
                <a:lnTo>
                  <a:pt x="207" y="7290"/>
                </a:lnTo>
                <a:lnTo>
                  <a:pt x="207" y="7391"/>
                </a:lnTo>
                <a:lnTo>
                  <a:pt x="207" y="7484"/>
                </a:lnTo>
                <a:lnTo>
                  <a:pt x="207" y="7612"/>
                </a:lnTo>
                <a:lnTo>
                  <a:pt x="233" y="7744"/>
                </a:lnTo>
                <a:lnTo>
                  <a:pt x="260" y="7841"/>
                </a:lnTo>
                <a:lnTo>
                  <a:pt x="282" y="7942"/>
                </a:lnTo>
                <a:lnTo>
                  <a:pt x="361" y="8004"/>
                </a:lnTo>
                <a:lnTo>
                  <a:pt x="440" y="8066"/>
                </a:lnTo>
                <a:lnTo>
                  <a:pt x="542" y="8132"/>
                </a:lnTo>
                <a:lnTo>
                  <a:pt x="696" y="8229"/>
                </a:lnTo>
                <a:lnTo>
                  <a:pt x="851" y="8295"/>
                </a:lnTo>
                <a:lnTo>
                  <a:pt x="1009" y="8326"/>
                </a:lnTo>
                <a:lnTo>
                  <a:pt x="1164" y="8392"/>
                </a:lnTo>
                <a:lnTo>
                  <a:pt x="1318" y="8427"/>
                </a:lnTo>
                <a:lnTo>
                  <a:pt x="1446" y="8458"/>
                </a:lnTo>
                <a:lnTo>
                  <a:pt x="1547" y="8458"/>
                </a:lnTo>
                <a:lnTo>
                  <a:pt x="1680" y="8427"/>
                </a:lnTo>
                <a:lnTo>
                  <a:pt x="1781" y="8326"/>
                </a:lnTo>
                <a:lnTo>
                  <a:pt x="1834" y="8229"/>
                </a:lnTo>
                <a:lnTo>
                  <a:pt x="1913" y="8163"/>
                </a:lnTo>
                <a:lnTo>
                  <a:pt x="1988" y="8101"/>
                </a:lnTo>
                <a:lnTo>
                  <a:pt x="2095" y="8066"/>
                </a:lnTo>
                <a:lnTo>
                  <a:pt x="2170" y="8004"/>
                </a:lnTo>
                <a:lnTo>
                  <a:pt x="2276" y="7973"/>
                </a:lnTo>
                <a:lnTo>
                  <a:pt x="2404" y="7973"/>
                </a:lnTo>
                <a:lnTo>
                  <a:pt x="2532" y="7942"/>
                </a:lnTo>
                <a:lnTo>
                  <a:pt x="2664" y="7942"/>
                </a:lnTo>
                <a:lnTo>
                  <a:pt x="2792" y="7942"/>
                </a:lnTo>
                <a:lnTo>
                  <a:pt x="2898" y="7973"/>
                </a:lnTo>
                <a:lnTo>
                  <a:pt x="2973" y="8101"/>
                </a:lnTo>
                <a:lnTo>
                  <a:pt x="3052" y="8229"/>
                </a:lnTo>
                <a:lnTo>
                  <a:pt x="3127" y="8361"/>
                </a:lnTo>
                <a:lnTo>
                  <a:pt x="3202" y="8458"/>
                </a:lnTo>
                <a:lnTo>
                  <a:pt x="3286" y="8555"/>
                </a:lnTo>
                <a:lnTo>
                  <a:pt x="3339" y="8652"/>
                </a:lnTo>
                <a:lnTo>
                  <a:pt x="3414" y="8780"/>
                </a:lnTo>
                <a:lnTo>
                  <a:pt x="3515" y="8877"/>
                </a:lnTo>
                <a:lnTo>
                  <a:pt x="3594" y="8979"/>
                </a:lnTo>
                <a:lnTo>
                  <a:pt x="3669" y="9076"/>
                </a:lnTo>
                <a:lnTo>
                  <a:pt x="3749" y="9137"/>
                </a:lnTo>
                <a:lnTo>
                  <a:pt x="3855" y="9199"/>
                </a:lnTo>
                <a:lnTo>
                  <a:pt x="3956" y="9265"/>
                </a:lnTo>
                <a:lnTo>
                  <a:pt x="4057" y="9331"/>
                </a:lnTo>
                <a:lnTo>
                  <a:pt x="4163" y="9331"/>
                </a:lnTo>
                <a:lnTo>
                  <a:pt x="4291" y="9362"/>
                </a:lnTo>
                <a:lnTo>
                  <a:pt x="4393" y="9398"/>
                </a:lnTo>
                <a:lnTo>
                  <a:pt x="4525" y="9398"/>
                </a:lnTo>
                <a:lnTo>
                  <a:pt x="4600" y="9398"/>
                </a:lnTo>
                <a:lnTo>
                  <a:pt x="4679" y="9362"/>
                </a:lnTo>
                <a:lnTo>
                  <a:pt x="4759" y="9331"/>
                </a:lnTo>
                <a:lnTo>
                  <a:pt x="4860" y="9234"/>
                </a:lnTo>
                <a:lnTo>
                  <a:pt x="4939" y="9137"/>
                </a:lnTo>
                <a:lnTo>
                  <a:pt x="4961" y="9040"/>
                </a:lnTo>
                <a:lnTo>
                  <a:pt x="5067" y="8913"/>
                </a:lnTo>
                <a:lnTo>
                  <a:pt x="5169" y="8846"/>
                </a:lnTo>
                <a:lnTo>
                  <a:pt x="5275" y="8749"/>
                </a:lnTo>
                <a:lnTo>
                  <a:pt x="5376" y="8652"/>
                </a:lnTo>
                <a:lnTo>
                  <a:pt x="5508" y="8586"/>
                </a:lnTo>
                <a:lnTo>
                  <a:pt x="5865" y="8524"/>
                </a:lnTo>
                <a:lnTo>
                  <a:pt x="6232" y="8489"/>
                </a:lnTo>
                <a:lnTo>
                  <a:pt x="6594" y="8489"/>
                </a:lnTo>
                <a:lnTo>
                  <a:pt x="6748" y="8489"/>
                </a:lnTo>
                <a:lnTo>
                  <a:pt x="6850" y="8489"/>
                </a:lnTo>
                <a:lnTo>
                  <a:pt x="6956" y="8524"/>
                </a:lnTo>
                <a:lnTo>
                  <a:pt x="7035" y="8555"/>
                </a:lnTo>
                <a:lnTo>
                  <a:pt x="7132" y="8617"/>
                </a:lnTo>
                <a:lnTo>
                  <a:pt x="7264" y="8652"/>
                </a:lnTo>
                <a:lnTo>
                  <a:pt x="7344" y="8652"/>
                </a:lnTo>
                <a:lnTo>
                  <a:pt x="7419" y="8652"/>
                </a:lnTo>
                <a:lnTo>
                  <a:pt x="7498" y="8617"/>
                </a:lnTo>
                <a:lnTo>
                  <a:pt x="7573" y="8555"/>
                </a:lnTo>
                <a:lnTo>
                  <a:pt x="7626" y="8458"/>
                </a:lnTo>
                <a:lnTo>
                  <a:pt x="7701" y="8326"/>
                </a:lnTo>
                <a:lnTo>
                  <a:pt x="7754" y="8198"/>
                </a:lnTo>
                <a:lnTo>
                  <a:pt x="7807" y="8066"/>
                </a:lnTo>
                <a:lnTo>
                  <a:pt x="7833" y="7973"/>
                </a:lnTo>
                <a:lnTo>
                  <a:pt x="7886" y="7876"/>
                </a:lnTo>
                <a:lnTo>
                  <a:pt x="7935" y="7779"/>
                </a:lnTo>
                <a:lnTo>
                  <a:pt x="7961" y="7647"/>
                </a:lnTo>
                <a:lnTo>
                  <a:pt x="7961" y="7550"/>
                </a:lnTo>
                <a:lnTo>
                  <a:pt x="7961" y="7453"/>
                </a:lnTo>
                <a:lnTo>
                  <a:pt x="7961" y="7356"/>
                </a:lnTo>
                <a:lnTo>
                  <a:pt x="7961" y="7193"/>
                </a:lnTo>
                <a:lnTo>
                  <a:pt x="7961" y="7065"/>
                </a:lnTo>
                <a:lnTo>
                  <a:pt x="7935" y="6963"/>
                </a:lnTo>
                <a:lnTo>
                  <a:pt x="7913" y="6871"/>
                </a:lnTo>
                <a:lnTo>
                  <a:pt x="7886" y="6774"/>
                </a:lnTo>
                <a:lnTo>
                  <a:pt x="7860" y="6677"/>
                </a:lnTo>
                <a:lnTo>
                  <a:pt x="7833" y="6545"/>
                </a:lnTo>
                <a:lnTo>
                  <a:pt x="7785" y="6412"/>
                </a:lnTo>
                <a:lnTo>
                  <a:pt x="7754" y="6289"/>
                </a:lnTo>
                <a:lnTo>
                  <a:pt x="7732" y="6192"/>
                </a:lnTo>
                <a:lnTo>
                  <a:pt x="7732" y="6090"/>
                </a:lnTo>
                <a:lnTo>
                  <a:pt x="7701" y="5962"/>
                </a:lnTo>
                <a:lnTo>
                  <a:pt x="7701" y="5861"/>
                </a:lnTo>
                <a:lnTo>
                  <a:pt x="7701" y="5768"/>
                </a:lnTo>
                <a:lnTo>
                  <a:pt x="7701" y="5641"/>
                </a:lnTo>
                <a:lnTo>
                  <a:pt x="7732" y="5539"/>
                </a:lnTo>
                <a:lnTo>
                  <a:pt x="7785" y="5411"/>
                </a:lnTo>
                <a:lnTo>
                  <a:pt x="7833" y="5252"/>
                </a:lnTo>
                <a:lnTo>
                  <a:pt x="7860" y="5120"/>
                </a:lnTo>
                <a:lnTo>
                  <a:pt x="7913" y="4926"/>
                </a:lnTo>
                <a:lnTo>
                  <a:pt x="7913" y="4763"/>
                </a:lnTo>
                <a:lnTo>
                  <a:pt x="7913" y="4568"/>
                </a:lnTo>
                <a:lnTo>
                  <a:pt x="7913" y="4374"/>
                </a:lnTo>
                <a:lnTo>
                  <a:pt x="7886" y="4176"/>
                </a:lnTo>
                <a:lnTo>
                  <a:pt x="7860" y="4017"/>
                </a:lnTo>
                <a:lnTo>
                  <a:pt x="7833" y="3889"/>
                </a:lnTo>
                <a:lnTo>
                  <a:pt x="7785" y="3726"/>
                </a:lnTo>
                <a:lnTo>
                  <a:pt x="7754" y="3624"/>
                </a:lnTo>
                <a:lnTo>
                  <a:pt x="7701" y="3501"/>
                </a:lnTo>
                <a:lnTo>
                  <a:pt x="7652" y="3404"/>
                </a:lnTo>
                <a:lnTo>
                  <a:pt x="7599" y="3272"/>
                </a:lnTo>
                <a:lnTo>
                  <a:pt x="7498" y="3175"/>
                </a:lnTo>
                <a:lnTo>
                  <a:pt x="7392" y="3042"/>
                </a:lnTo>
                <a:lnTo>
                  <a:pt x="7291" y="2914"/>
                </a:lnTo>
                <a:lnTo>
                  <a:pt x="7216" y="2786"/>
                </a:lnTo>
                <a:lnTo>
                  <a:pt x="7110" y="2654"/>
                </a:lnTo>
                <a:lnTo>
                  <a:pt x="7004" y="2557"/>
                </a:lnTo>
                <a:lnTo>
                  <a:pt x="6929" y="2429"/>
                </a:lnTo>
                <a:lnTo>
                  <a:pt x="6850" y="2332"/>
                </a:lnTo>
                <a:lnTo>
                  <a:pt x="6775" y="2200"/>
                </a:lnTo>
                <a:lnTo>
                  <a:pt x="6695" y="2103"/>
                </a:lnTo>
                <a:lnTo>
                  <a:pt x="6647" y="1975"/>
                </a:lnTo>
                <a:lnTo>
                  <a:pt x="6563" y="1878"/>
                </a:lnTo>
                <a:lnTo>
                  <a:pt x="6488" y="1781"/>
                </a:lnTo>
                <a:lnTo>
                  <a:pt x="6413" y="1653"/>
                </a:lnTo>
                <a:lnTo>
                  <a:pt x="6360" y="1521"/>
                </a:lnTo>
                <a:lnTo>
                  <a:pt x="6307" y="1362"/>
                </a:lnTo>
                <a:lnTo>
                  <a:pt x="6307" y="1265"/>
                </a:lnTo>
                <a:lnTo>
                  <a:pt x="6307" y="1133"/>
                </a:lnTo>
                <a:lnTo>
                  <a:pt x="6307" y="1036"/>
                </a:lnTo>
                <a:lnTo>
                  <a:pt x="6281" y="903"/>
                </a:lnTo>
                <a:lnTo>
                  <a:pt x="6281" y="780"/>
                </a:lnTo>
                <a:lnTo>
                  <a:pt x="6259" y="648"/>
                </a:lnTo>
                <a:lnTo>
                  <a:pt x="6232" y="485"/>
                </a:lnTo>
                <a:lnTo>
                  <a:pt x="6153" y="352"/>
                </a:lnTo>
                <a:lnTo>
                  <a:pt x="6078" y="286"/>
                </a:lnTo>
                <a:lnTo>
                  <a:pt x="5972" y="194"/>
                </a:lnTo>
                <a:lnTo>
                  <a:pt x="5865" y="163"/>
                </a:lnTo>
                <a:lnTo>
                  <a:pt x="5764" y="127"/>
                </a:lnTo>
                <a:lnTo>
                  <a:pt x="5663" y="127"/>
                </a:lnTo>
                <a:lnTo>
                  <a:pt x="5561" y="127"/>
                </a:lnTo>
                <a:lnTo>
                  <a:pt x="5477" y="127"/>
                </a:lnTo>
                <a:lnTo>
                  <a:pt x="5376" y="127"/>
                </a:lnTo>
                <a:lnTo>
                  <a:pt x="5275" y="163"/>
                </a:lnTo>
                <a:lnTo>
                  <a:pt x="5169" y="163"/>
                </a:lnTo>
                <a:lnTo>
                  <a:pt x="5094" y="163"/>
                </a:lnTo>
                <a:lnTo>
                  <a:pt x="4992" y="163"/>
                </a:lnTo>
                <a:lnTo>
                  <a:pt x="4886" y="163"/>
                </a:lnTo>
                <a:lnTo>
                  <a:pt x="4807" y="163"/>
                </a:lnTo>
                <a:lnTo>
                  <a:pt x="4732" y="163"/>
                </a:lnTo>
                <a:lnTo>
                  <a:pt x="4653" y="163"/>
                </a:lnTo>
                <a:lnTo>
                  <a:pt x="4622" y="83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46280" y="2651040"/>
            <a:ext cx="96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13160" y="2575080"/>
            <a:ext cx="731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3352680"/>
            <a:ext cx="914400" cy="30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3276720"/>
            <a:ext cx="990720" cy="18288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3429000"/>
            <a:ext cx="16761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30640" y="4572000"/>
            <a:ext cx="420840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MyObject: public IMyObjec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__stdcall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is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__stdcall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at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WalkUp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WalkDow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3352680"/>
            <a:ext cx="1066680" cy="4572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358128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42900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50532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91320" y="2590920"/>
            <a:ext cx="32338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MyObjec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void __stdcall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is() = 0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int __stdcall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at() = 0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32480" y="3298680"/>
            <a:ext cx="824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32480" y="3527280"/>
            <a:ext cx="824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1332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omponent Objec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143000"/>
            <a:ext cx="914256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 is the way OLE objects talk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COM interfaces have at least these three methods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HRESULT QueryInterface( riid: REFIID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**p)=0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n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AddRef()=0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n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Release()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re reference-cou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Factories are COM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may have multip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 is multi-lin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omponent Objec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 has lots of features, but you may not need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interfaces for multilingual access to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objects may only need on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may want to control your objects’ lifetime (no reference count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Symbo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may not want to use the COM Factory mech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yObject as COM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IMyObjec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IUnknown {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HRESULT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__stdcal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QueryInterface( riid: REFIID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**p)=0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long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__stdcal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AddRef()=0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long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__stdcal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Release()=0;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__stdcall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is() = 0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__stdcall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oThat() = 0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28004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se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phi Forms in OWL &amp; MFC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Functio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fine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x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"C"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MyFunc()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: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MyFunc: integer;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Delphi Forms From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85920" y="2266920"/>
            <a:ext cx="4484520" cy="4514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5013360" y="1432080"/>
            <a:ext cx="291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MDI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927760" y="2575080"/>
            <a:ext cx="1751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648320" y="1828800"/>
            <a:ext cx="914400" cy="533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181480" y="2971800"/>
            <a:ext cx="1067040" cy="7621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724200" y="4352760"/>
            <a:ext cx="3514680" cy="2400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6004080" y="3565440"/>
            <a:ext cx="29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 Form as 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781680" y="3962520"/>
            <a:ext cx="457200" cy="5331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0" y="285840"/>
            <a:ext cx="914256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Delphi Modal Forms to Implement Dia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523880"/>
            <a:ext cx="8991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Common Dialogs as a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Delphi DLL that exports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function shows a form mod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unMyForm : Integer;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Application.CreateForm(TMyForm,MyForm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MyForm.Visible := True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Result := MyForm.RunModal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he function from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xter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"C"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unMyForm(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main(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int x = RunMyForm(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printf("The result is %d\n", x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log Data Transfer: Pa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657440"/>
            <a:ext cx="7772400" cy="434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DlgStruct 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ield1: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rray[0..255] of ch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ield2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unMyForm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nfo: TDlgStruct) : Integer;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Application.CreateForm(TMyForm,MyForm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MyForm.Visible := True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Result := MyForm.RunModal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sult = mrOk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fo.field1 := MyForm.Edit1.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fo.field2 := StrToInt(MyForm.Edit2.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nd;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log Data Transfer: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657440"/>
            <a:ext cx="7772400" cy="44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Dlg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field1[256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field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xter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"C"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unMyForm(TDlgStruct &amp;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DlgStruct info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int x = RunMyForm(info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printf("The result is %d\n", 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x == IDO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f(“and the data is: %s, %d”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info.field1, info.field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a Delphi Form as a Child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47720"/>
            <a:ext cx="4267080" cy="4295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400560" y="3409920"/>
            <a:ext cx="4010040" cy="3381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 flipV="1">
            <a:off x="533520" y="5638680"/>
            <a:ext cx="2895480" cy="114300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572000" y="2286000"/>
            <a:ext cx="2819520" cy="114300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ing an Embeddable Delphi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a DL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th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 from TEmbeddableForm from EmbForm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and export a factor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the DLL’s import library with IMP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beddabl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bclass of 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 form to have a paren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ParentHandl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ctor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657440"/>
            <a:ext cx="777240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chil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ly, returns an interface on th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CreateTForm1( hWndParent: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pObj: IUnknown ):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theForm: TForm1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egin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Application.CreateForm( TForm1, theForm 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theForm.ParentHandle := hWndParen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Result := theForm.Handle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pObj :=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il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;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optionally, return another interfac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to the window, to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“dlwrap.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a TDelphiFormWrapper object using the factor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frame window’s client to be the wrapper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he DLL’s import library to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WL Exampl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"dlctl.h"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xter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HWND CreateTForm1(HWND Parent, LPUNKNOWN &amp;pObj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OpenTheFormWindow(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TWindow * myWindow =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DelphiFormWrapper(CreateTForm1, 0, 0, 0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TFrameWindow *MainWindow =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FrameWindow(0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"Sample OWL Window with Delphi form”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mywindow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Functio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all the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x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x = MyFunc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x: Integer;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eg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x := MyFunc;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ing the Form’s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657440"/>
            <a:ext cx="9142560" cy="41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ctory can return a COM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rapper stores the interface in “pOleObj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++ program can drive the interface: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DelphiFormWrapper *myWindow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MyForm *myForm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yWindow-&gt;pOleObj-&gt;QueryInterface(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IID_MyInterface, &amp;myForm)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yForm-&gt;DoThis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F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“dlwrap.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FormWrapper object using the factor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frame window’s child to be the wrapper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he DLL’s import library to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FC Exampl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"dlctl.h"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xter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HWND CreateTForm1(HWND Parent, LPUNKNOWN &amp;pObj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ChildFrame *win 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ChildFrame(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in-&gt;Create(NULL, "Captio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DelphiFormWrapper *child =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DelphiFormWrapper( CreateTForm1 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ild-&gt;Create( win 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in-&gt;SetActiveView( child 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203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5800" y="28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Code And Objects Between Delphi and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rad Herr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Archi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In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herrmann@wpo.borlan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ules for Shar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 Calling Conven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xtern “C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on-mangled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parameters for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ometimes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110000"/>
              <a:buFont typeface="Symbo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 Forms in OWL &amp; MFC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ck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2535120"/>
            <a:ext cx="56214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ckaging Functions in a D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219320"/>
            <a:ext cx="7696080" cy="20574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886200"/>
            <a:ext cx="6781680" cy="28195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1279440"/>
            <a:ext cx="853452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Execu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MyFunc: Integer;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ternal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‘MyDLL.DLL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x := MyFun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403848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Dynamic Link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call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__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por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MyFunc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6320" y="2438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2438280"/>
            <a:ext cx="0" cy="23623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6320" y="48006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nrad Herrmann</dc:creator>
  <dc:description/>
  <dc:language>en-US</dc:language>
  <cp:lastModifiedBy>Conrad Herrmann</cp:lastModifiedBy>
  <cp:revision>0</cp:revision>
  <dc:subject/>
  <dc:title>Sharing Code And Objects Between Delphi and C++</dc:title>
</cp:coreProperties>
</file>